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777-A3F4-4BF0-9651-957E3B1C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463-B1E1-499C-8CF6-74C6C4B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812-2C98-401B-A74D-6724B67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953-C65D-4DE3-93CC-C8328E14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F1E8-A4DF-401B-B038-3F13BBDD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1F5-60E3-4C64-B870-B8CA31E5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1A5-FFFA-4E2E-968E-1149E38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29B5-E052-4243-ADF1-8DD962FF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73AC-C6FC-478A-8E43-F4E9B9C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4687-A1D8-4902-9CCC-2F973D2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00B-44E0-40EA-941D-26225ED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5E1-BDDD-453B-B91D-C70480E6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18B3-23EB-487A-9EF3-81FB55E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B6D-D6E8-43D8-9EC5-64E222E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B8B-7CFF-45CF-97D8-AA67256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A7CE-792B-4B1D-8E40-2E64C0F2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8A04-8D8E-4A8A-843B-FDFF846E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AFA-A2BC-4D94-80F1-79326BE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B1F-F1D9-42DF-9D13-1D653618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759-FCE8-40D2-9E8B-3860641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B0D-0989-4A19-A673-639771AC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6EC-B0F5-4755-8E6C-5B186AF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374-9E74-4D5A-9008-C12000E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FA7-A331-448A-A8D6-3EA2BC3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80D-6EE9-49E4-A76F-791E7B4AF0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D7A-461A-47EE-855B-99D7D37A50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/>
          <p:cNvSpPr/>
          <p:nvPr/>
        </p:nvSpPr>
        <p:spPr>
          <a:xfrm>
            <a:off x="1143000" y="2133720"/>
            <a:ext cx="66294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057400" y="4114800"/>
            <a:ext cx="4419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wito Wiyanto,dr.,M.Biomed.,AI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152280" y="76320"/>
            <a:ext cx="518184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s Pembekuan D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438280" y="2666880"/>
            <a:ext cx="670572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bul 15 – 20 detik setelah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ding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s pembekuan darah melalui 3 tahap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embentukan Protrombin ac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rubahan Protrombin menjadi throm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rubahan fibrinogen menjadi fib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 flipH="1" rot="10800000">
            <a:off x="1065240" y="1904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209680" y="228600"/>
            <a:ext cx="640080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mbentukan Protombin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371600" y="3581280"/>
            <a:ext cx="320040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strinsi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ulai dgn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 jaringan dil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943600" y="358128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isi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ulai d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ri atau d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lm darah send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 rot="5400000">
            <a:off x="6038640" y="2076480"/>
            <a:ext cx="1181160" cy="12189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 flipH="1" rot="16147200">
            <a:off x="2761200" y="2076480"/>
            <a:ext cx="1181160" cy="1219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419720" y="205740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152280" y="152280"/>
            <a:ext cx="4572000" cy="1295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lur ekstrin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819520" y="2514600"/>
            <a:ext cx="6172200" cy="350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darah menyentuh jaringan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ak akan timbul hal – hal sb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epasan faktor jaringan (faktor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fosfolipit ja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ngaktifan faktor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mbetukan Protom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 flipH="1" rot="10800000">
            <a:off x="1141560" y="1904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304920" y="152280"/>
            <a:ext cx="434340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lur Intrin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438280" y="2819520"/>
            <a:ext cx="6553440" cy="380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darah mengalami trauma 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jadi hal – hal sb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engaktifan faktor XII &amp; pelepas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folipid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ngaktifan faktor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ngaktifan faktor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Pengaktifan fakt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Pembentukan Protrombin ak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flipH="1" rot="10800000">
            <a:off x="684360" y="18288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fig-16-13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380880" y="6172200"/>
            <a:ext cx="32767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lur proses hemo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533520" y="609480"/>
            <a:ext cx="5257800" cy="2133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Protrom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m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590920" y="4267080"/>
            <a:ext cx="640080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elah terbentuk Protrombin ak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a Protromb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1371600" y="198108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486400" y="54864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 flipH="1" rot="10800000">
            <a:off x="990360" y="32763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533520" y="228600"/>
            <a:ext cx="4800600" cy="2057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fibrino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2209680" y="2971800"/>
            <a:ext cx="693432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merupakan suatu enzim proteoli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bekerja pada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hingga terbentuk benang – benang fib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jang semacam jala (retikulum), ag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gan bantuan faktor XIII &amp; Ca++, terja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katan yang kuat &amp; erat menjadi fibrin stab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1219320" y="15238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0800000">
            <a:off x="836640" y="25905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ig-16-11"/>
          <p:cNvPicPr/>
          <p:nvPr/>
        </p:nvPicPr>
        <p:blipFill>
          <a:blip r:embed="rId1"/>
          <a:stretch/>
        </p:blipFill>
        <p:spPr>
          <a:xfrm>
            <a:off x="228600" y="228600"/>
            <a:ext cx="6534000" cy="6400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5562720" y="4876920"/>
            <a:ext cx="3581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elah bekuan diperkuat terj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ekanis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Pertumbuhan sel memperba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mbuluh yang rus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Fibrin secara perlahan dilarut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eh plasmin, bekuan lar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il akhir pumbuluh in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5791320" y="6629400"/>
            <a:ext cx="457200" cy="0"/>
          </a:xfrm>
          <a:prstGeom prst="line">
            <a:avLst/>
          </a:prstGeom>
          <a:ln w="38160">
            <a:solidFill>
              <a:srgbClr val="e11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219320" y="49528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809880" y="5638680"/>
            <a:ext cx="152640" cy="152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/>
          <p:cNvSpPr/>
          <p:nvPr/>
        </p:nvSpPr>
        <p:spPr>
          <a:xfrm>
            <a:off x="762120" y="152280"/>
            <a:ext cx="4800600" cy="2057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fibrino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1523880" y="144792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666880" y="3124080"/>
            <a:ext cx="601992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ain itu proses di atas diikuti 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 proses lai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traksi bekuan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yner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is bekuan darah (fibri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 flipH="1" rot="10800000">
            <a:off x="1141560" y="25905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2133720" y="2971800"/>
            <a:ext cx="6933960" cy="373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am bekuan darah banyak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mengandung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berapa menit terbentuk beku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kontraksi, serat – serat fib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endek dan memeras cairan beku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, disebut SE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dk terdpt pd pembekuan dara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685800" y="838080"/>
            <a:ext cx="647712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traksi bekuan dar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yneresis) = Clot re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 flipH="1" rot="10800000">
            <a:off x="761760" y="25905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/>
          <p:cNvSpPr/>
          <p:nvPr/>
        </p:nvSpPr>
        <p:spPr>
          <a:xfrm>
            <a:off x="304920" y="2666880"/>
            <a:ext cx="8839080" cy="3581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st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ma: darah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is, Stoppage: penghentian, kemace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hemostasis: Cara tubuh untuk menghentik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jaga darah pada kerusakan pembuluh da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deda dengan Homeosta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04920" y="685800"/>
            <a:ext cx="5486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2819520" y="3276720"/>
            <a:ext cx="632448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dlm plasma darah terdp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is globulin yg disebut Plasmino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ini diaktifkan menjadi plas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merupakan enzim Proteolit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im ini mencern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ncurkan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52280" y="304920"/>
            <a:ext cx="5791320" cy="1218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is bekuan darah (fibri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 flipH="1" rot="10800000">
            <a:off x="1218960" y="1828800"/>
            <a:ext cx="121896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28600" y="76320"/>
            <a:ext cx="8610480" cy="2514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ksi – reaksi pembatas yg normal menceg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pembekuan di pembuluh yg tidak mengal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era dan mempertahakan darah berada d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aadaan c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2286000"/>
            <a:ext cx="8534520" cy="4572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 – faktor yang ikut sert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dotelium pembuluh darah dan kolagen y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pisi bagian baw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onus vask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istem pembek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brinoli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Sifat – sifat aliran drh dlm pembuluh d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8120" y="3657600"/>
            <a:ext cx="586728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mboplastin ad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issue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eluarkan oleh jaringan y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lami kerusakan (trau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sma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dapat di dalam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762120" y="152280"/>
            <a:ext cx="4572000" cy="1295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ombin ak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86000" y="1752480"/>
            <a:ext cx="6019920" cy="16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n yang dapat mengub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ombin menjadi tromb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lu disebut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228600" y="304920"/>
            <a:ext cx="6553080" cy="1447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fat – sifat utama trombosit (plate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276720" y="3124080"/>
            <a:ext cx="5715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h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Vasokontr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greg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nting dlm clot retr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rperan sbg anti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 flipH="1" rot="10800000">
            <a:off x="1141560" y="20574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2514600" y="17524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21337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895480" y="1981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895480" y="2590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95480" y="32004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2895480" y="3809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895480" y="4724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952880" y="259092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hrom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952880" y="190512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4952880" y="320040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 factor 3,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4952880" y="388620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4724280" y="45720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le faktor, Proacceler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or globulin; Ac-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5486400" y="11430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2362320" y="1143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886200" y="21337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3886200" y="28195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3886200" y="41148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3886200" y="4952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514600" y="19810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63868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895480" y="266688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724280" y="1981080"/>
            <a:ext cx="434340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um prothrom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on acceleration;SP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onvertin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prothombin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2819520" y="464832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4876920" y="4495680"/>
            <a:ext cx="426708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emophilic factor; AH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emofilik globulin;AH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3886200" y="28195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3886200" y="4952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2514600" y="19810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743200" y="25146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563868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257800" y="198108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, Chrismas fakt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prothrombi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743200" y="35812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5257800" y="327672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Prower fakt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prothrombin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886200" y="2666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962520" y="38862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2743200" y="48006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257800" y="457200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th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cedent, 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3962520" y="50292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514600" y="1981080"/>
            <a:ext cx="1219320" cy="22860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40490">
                <a:moveTo>
                  <a:pt x="3600" y="0"/>
                </a:moveTo>
                <a:arcTo wR="3600" hR="3600" stAng="16200000" swAng="-5400000"/>
                <a:lnTo>
                  <a:pt x="0" y="36890"/>
                </a:lnTo>
                <a:arcTo wR="3600" hR="3600" stAng="10800000" swAng="-5400000"/>
                <a:lnTo>
                  <a:pt x="18000" y="40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548640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5257800" y="2209680"/>
            <a:ext cx="38098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eman 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2743200" y="22860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2743200" y="34290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5257800" y="3276720"/>
            <a:ext cx="38098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 - stab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3886200" y="36576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152280" y="152280"/>
            <a:ext cx="662940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– test dlm proses koagulasi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819520" y="2590920"/>
            <a:ext cx="6248160" cy="335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ed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omb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mple 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 retrak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 flipH="1" rot="10800000">
            <a:off x="1065240" y="198108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2286000" y="1143000"/>
            <a:ext cx="4267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h anti koag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181480" y="4267080"/>
            <a:ext cx="358164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uma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f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 flipH="1" rot="10800000">
            <a:off x="3351600" y="3047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304920" y="685800"/>
            <a:ext cx="5486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133720" y="3200400"/>
            <a:ext cx="7010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hentikan perdarahan dari putu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mbuluh darah sehingga menyeto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hentikan pendar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flipH="1" rot="10800000">
            <a:off x="684360" y="2286000"/>
            <a:ext cx="1219320" cy="228600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209680" y="5334120"/>
            <a:ext cx="693432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cegah kehilangan darah d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usakan pembuluh darah ke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4"/>
          <p:cNvSpPr/>
          <p:nvPr/>
        </p:nvSpPr>
        <p:spPr>
          <a:xfrm flipH="1">
            <a:off x="457200" y="1066680"/>
            <a:ext cx="236232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33520" y="18288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atu antikoagulan alami, mempermudah kerja anti trom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3505320"/>
            <a:ext cx="4952880" cy="761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kumarol dan walf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762120" y="4343400"/>
            <a:ext cx="792468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 kumarin, merupakan antikoagulan efekti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ja menghambat Vitamin K, vik K merupakan kof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diperlukan oleh: faktor II, VII, IX, X, protein C &amp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/>
          <p:cNvSpPr/>
          <p:nvPr/>
        </p:nvSpPr>
        <p:spPr>
          <a:xfrm>
            <a:off x="609480" y="228600"/>
            <a:ext cx="853452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ntukkan bekuan di dl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= Trombus. Trombus dpt menyebab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yakit  pada pembuluh darah, sebab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ran darah lambat. Terutama pada vena tungk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elah operasi atau melahir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666880" y="3886200"/>
            <a:ext cx="617220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 trombus ini terjadi pd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dapat menyebab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balan dinding 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800" spc="-1" strike="noStrike">
                <a:solidFill>
                  <a:srgbClr val="e11803"/>
                </a:solidFill>
                <a:latin typeface="Arial"/>
              </a:rPr>
              <a:t>ARTERIOSKE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0" y="1523880"/>
            <a:ext cx="9144000" cy="358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at lain dari trombus dpt lepas dari di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uluh darah dan berenang menyumb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uluh darah jantung dan paru yg meny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kan kematian mendadak atau </a:t>
            </a:r>
            <a:r>
              <a:rPr b="0" lang="en-US" sz="3200" spc="-1" strike="noStrike">
                <a:solidFill>
                  <a:srgbClr val="e11803"/>
                </a:solidFill>
                <a:latin typeface="Arial"/>
              </a:rPr>
              <a:t>sudden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umbat pembuluh darah otak menyebab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304920" y="685800"/>
            <a:ext cx="8839080" cy="5486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egahan pembekuan di dlm siste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yg normal </a:t>
            </a:r>
            <a:r>
              <a:rPr b="0" lang="en-US" sz="2800" spc="-1" strike="noStrike" u="sng">
                <a:solidFill>
                  <a:srgbClr val="e11803"/>
                </a:solidFill>
                <a:uFillTx/>
                <a:latin typeface="Arial"/>
              </a:rPr>
              <a:t>At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rah di dl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yg normal, tidak terjadi pembek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b – seba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dotelium pembuluh darah yg l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pisan protein muatan negatif melapisi endo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lak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danya zat – zat anti koagulan di dlm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rin &amp; antitromb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at –serat fibrin dlm bekuan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psorpsi hampir seluruh trombin menceg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uasnya bekuan da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4"/>
          <p:cNvSpPr/>
          <p:nvPr/>
        </p:nvSpPr>
        <p:spPr>
          <a:xfrm>
            <a:off x="76320" y="609480"/>
            <a:ext cx="617220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200400" y="3352680"/>
            <a:ext cx="579132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emofilia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kurangan faktor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mofilia B (penyakit Christm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kurangan faktor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flipH="1" rot="10800000">
            <a:off x="1751400" y="22860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304920" y="0"/>
            <a:ext cx="6933960" cy="16765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057400" y="1752480"/>
            <a:ext cx="7086600" cy="487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yakit Afibrinogenemi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pd kehamilan dgn lepas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enta sebelum waktu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nyakit Von Willebrand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babkan turunnya faktor Willebr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perpanjang perdara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 Willebrand + Faktor VIII menja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leks mengatur kadarnya d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 flipH="1" rot="10800000">
            <a:off x="685440" y="2057400"/>
            <a:ext cx="990720" cy="2362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304920" y="0"/>
            <a:ext cx="6933960" cy="16765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2057400" y="2057400"/>
            <a:ext cx="708660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poprotrombinem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siensi faktor II, kecenderungan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an pada penyakit h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arahemofi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siensi faktor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 flipH="1" rot="10800000">
            <a:off x="685440" y="2057400"/>
            <a:ext cx="990720" cy="2362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fig-16-14"/>
          <p:cNvPicPr/>
          <p:nvPr/>
        </p:nvPicPr>
        <p:blipFill>
          <a:blip r:embed="rId1"/>
          <a:stretch/>
        </p:blipFill>
        <p:spPr>
          <a:xfrm>
            <a:off x="0" y="378000"/>
            <a:ext cx="891540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685800"/>
            <a:ext cx="8839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juk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thorn D.U “ Human physiology an integrated Approac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e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wood L.” Human physiology from cells to systems. Fourt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ong W.” Review of Medical Physiology.”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304920" y="228600"/>
            <a:ext cx="487656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S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514600" y="3962520"/>
            <a:ext cx="6400800" cy="21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stiwa ini terjadi ada 3 tahapan may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 Konstriksi lokal/spasme vask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batan trombosit/plate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s pembeku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 flipH="1" rot="10800000">
            <a:off x="761760" y="30477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0" y="609480"/>
            <a:ext cx="6324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Vaso Konstraksi/spasme vask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362320" y="2514600"/>
            <a:ext cx="678168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pembuluh darah mengalami kerus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bek/terpotong) dinding 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ontraksi lumen menjadi sem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 ini terjadi karen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k saraf yang menimbulkan  r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eri pada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romboksa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i fosfolipid mem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osit,  vasokonstriksi pembulu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 flipH="1" rot="10800000">
            <a:off x="912960" y="220968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2057400" y="2209680"/>
            <a:ext cx="6934320" cy="426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Kontraksi miogin setempat dari d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uluh darah yang rusak 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bul potensial 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Endotil pembuluh darah yang rusak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isan kolagen keluar,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kat pd kolagen &amp; melepas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tonin yang bersifat va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tr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28600" y="228600"/>
            <a:ext cx="647712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Vaso Konstraksi/spasme vask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 flipH="1" rot="10800000">
            <a:off x="455760" y="22860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ig-16-1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52280" y="5486400"/>
            <a:ext cx="8686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buluh darah yang utuh mengeluarkan Prostasiklin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 oksida (NO) mencegah trombosit melekat pada di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buluh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457200" y="457200"/>
            <a:ext cx="586728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batan trombosit/plate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85800" y="3809880"/>
            <a:ext cx="601992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ain serotonin, trombosit melekat p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isan kolagen melepaskan ADP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lahnya bany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295280" y="1981080"/>
            <a:ext cx="1143000" cy="1600200"/>
          </a:xfrm>
          <a:prstGeom prst="downArrow">
            <a:avLst>
              <a:gd name="adj1" fmla="val 50000"/>
              <a:gd name="adj2" fmla="val 35000"/>
            </a:avLst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2209680" y="2438280"/>
            <a:ext cx="678204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gsi ADP mengaktivasi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innya yang berdekatan sehingga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 tertarik terbentuklah suatu sumb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i masa trombosit yang agak longgar b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usakan pembuluh darah kecil, sumb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 sudah cukup untuk mencegah perdara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52280" y="76320"/>
            <a:ext cx="586764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batan trombosit Semen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flipH="1" rot="10800000">
            <a:off x="836640" y="18288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ki</dc:creator>
  <dc:description/>
  <dc:language>en-US</dc:language>
  <cp:lastModifiedBy>uki</cp:lastModifiedBy>
  <dcterms:modified xsi:type="dcterms:W3CDTF">2011-05-04T03:57:10Z</dcterms:modified>
  <cp:revision>61</cp:revision>
  <dc:subject/>
  <dc:title>PowerPoint Presentation</dc:title>
</cp:coreProperties>
</file>