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9654-79FE-4E8A-854B-9578472AC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D14C-A38C-4454-BF21-6784A69D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502E-D305-4B21-AFBB-ACBC9B5CD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626A-A7E6-47F0-96BC-2E3935710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58F0-B4EA-4F75-BA97-E43D32B5C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E008-62B8-4524-9F96-EBBC1B86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72FE-C053-4FA6-B0E8-579D154A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3340-9A68-4FAC-95F9-19FD5FEE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0DC8-0F57-4A29-8B5B-AF5166F1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6044-F739-463C-BE01-838D547F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2A63-72E2-4E23-8E0C-D7A2051C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A228-7331-4D6B-A71B-71384017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9591-6652-48B3-BD77-0D77F8C3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865E-8849-463A-AE6D-7FA4560A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B8E5-7B11-4A7A-B0FD-FB8FE9A7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00EB-1718-4F7A-B0BE-929E4178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9D01-CB4A-445F-9B46-C2C542E6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BEDC-C885-4292-97C7-D6B94193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777B-61A7-4F0F-B3AD-AF8F81BF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D63E-432F-4802-A245-3D7A7FA9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643B-78A6-4A24-8D73-2F8FF326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4CD1-C401-4273-885E-E465C607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7C93-1C9C-4A59-A1EB-0FAB400E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30CE-39C7-4C20-8B49-45588EA1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29DB-E943-4EE1-B9DF-37A5260B77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46B9-7BAE-4EC2-9D5A-14A6C64773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5"/>
          <p:cNvSpPr/>
          <p:nvPr/>
        </p:nvSpPr>
        <p:spPr>
          <a:xfrm>
            <a:off x="1143000" y="2133720"/>
            <a:ext cx="6629400" cy="17524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MOSTAS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2057400" y="4114800"/>
            <a:ext cx="441972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wito Wiyanto,dr.,M.Biomed.,AI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4"/>
          <p:cNvSpPr/>
          <p:nvPr/>
        </p:nvSpPr>
        <p:spPr>
          <a:xfrm>
            <a:off x="152280" y="76320"/>
            <a:ext cx="5181840" cy="15238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ses Pembekuan Dar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2438280" y="2666880"/>
            <a:ext cx="6705720" cy="365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bul 15 – 20 detik setelah trau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nding pembuluh dar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es pembekuan darah melalui 3 tahap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Pembentukan Protrombin activ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Perubahan Protrombin menjadi thromb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Perubahan fibrinogen menjadi fib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 flipH="1" rot="10800000">
            <a:off x="1065240" y="1904760"/>
            <a:ext cx="1219320" cy="281916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4"/>
          <p:cNvSpPr/>
          <p:nvPr/>
        </p:nvSpPr>
        <p:spPr>
          <a:xfrm>
            <a:off x="2209680" y="228600"/>
            <a:ext cx="6400800" cy="13716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mbentukan Protombin Activ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1371600" y="3581280"/>
            <a:ext cx="3200400" cy="25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kstrinsik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mulai dgn trau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d jaringan dilu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mbuluh dar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5943600" y="3581280"/>
            <a:ext cx="3124080" cy="25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trisik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mulai d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mbuluh dara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iri atau d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lm darah send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8"/>
          <p:cNvSpPr/>
          <p:nvPr/>
        </p:nvSpPr>
        <p:spPr>
          <a:xfrm rot="5400000">
            <a:off x="6038640" y="2076480"/>
            <a:ext cx="1181160" cy="121896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9"/>
          <p:cNvSpPr/>
          <p:nvPr/>
        </p:nvSpPr>
        <p:spPr>
          <a:xfrm flipH="1" rot="16147200">
            <a:off x="2761200" y="2076480"/>
            <a:ext cx="1181160" cy="121932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0"/>
          <p:cNvSpPr/>
          <p:nvPr/>
        </p:nvSpPr>
        <p:spPr>
          <a:xfrm>
            <a:off x="4419720" y="205740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4"/>
          <p:cNvSpPr/>
          <p:nvPr/>
        </p:nvSpPr>
        <p:spPr>
          <a:xfrm>
            <a:off x="152280" y="152280"/>
            <a:ext cx="4572000" cy="12956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alur ekstrins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2819520" y="2514600"/>
            <a:ext cx="6172200" cy="350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a darah menyentuh jaringan ya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sak akan timbul hal – hal sbb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lepasan faktor jaringan (faktor I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n fosfolipit jarin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Pengaktifan faktor 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Pembetukan Protomb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tiva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 flipH="1" rot="10800000">
            <a:off x="1141560" y="1904760"/>
            <a:ext cx="1219320" cy="281916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4"/>
          <p:cNvSpPr/>
          <p:nvPr/>
        </p:nvSpPr>
        <p:spPr>
          <a:xfrm>
            <a:off x="304920" y="152280"/>
            <a:ext cx="4343400" cy="1143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alur Intrins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2438280" y="2819520"/>
            <a:ext cx="6553440" cy="3809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a darah mengalami trauma ak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jadi hal – hal sbb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Pengaktifan faktor XII &amp; pelepas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sfolipid trombo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Pengaktifan faktor X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Pengaktifan faktor 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 Pengaktifan faktor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 Pembentukan Protrombin aktiv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 flipH="1" rot="10800000">
            <a:off x="684360" y="1828800"/>
            <a:ext cx="1219320" cy="281952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fig-16-13"/>
          <p:cNvPicPr/>
          <p:nvPr/>
        </p:nvPicPr>
        <p:blipFill>
          <a:blip r:embed="rId1"/>
          <a:stretch/>
        </p:blipFill>
        <p:spPr>
          <a:xfrm>
            <a:off x="1219320" y="76320"/>
            <a:ext cx="6781680" cy="678168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5"/>
          <p:cNvSpPr/>
          <p:nvPr/>
        </p:nvSpPr>
        <p:spPr>
          <a:xfrm>
            <a:off x="380880" y="6172200"/>
            <a:ext cx="3276720" cy="4572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lur proses hemost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4"/>
          <p:cNvSpPr/>
          <p:nvPr/>
        </p:nvSpPr>
        <p:spPr>
          <a:xfrm>
            <a:off x="533520" y="609480"/>
            <a:ext cx="5257800" cy="21337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ubahan Protromb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mb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2590920" y="4267080"/>
            <a:ext cx="6400800" cy="198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elah terbentuk Protrombin aktiv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a Protromb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mb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6"/>
          <p:cNvSpPr/>
          <p:nvPr/>
        </p:nvSpPr>
        <p:spPr>
          <a:xfrm>
            <a:off x="1371600" y="1981080"/>
            <a:ext cx="8380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>
            <a:off x="5486400" y="5486400"/>
            <a:ext cx="7621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 flipH="1" rot="10800000">
            <a:off x="990360" y="3276360"/>
            <a:ext cx="1218960" cy="281916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4"/>
          <p:cNvSpPr/>
          <p:nvPr/>
        </p:nvSpPr>
        <p:spPr>
          <a:xfrm>
            <a:off x="533520" y="228600"/>
            <a:ext cx="4800600" cy="20574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ubahan fibrinoge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b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2209680" y="2971800"/>
            <a:ext cx="6934320" cy="365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mbin merupakan suatu enzim proteolit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mbin bekerja pada fibrinog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hingga terbentuk benang – benang fib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njang semacam jala (retikulum), aga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g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gan bantuan faktor XIII &amp; Ca++, terja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katan yang kuat &amp; erat menjadi fibrin stab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1219320" y="1523880"/>
            <a:ext cx="9144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 flipH="1" rot="10800000">
            <a:off x="836640" y="2590560"/>
            <a:ext cx="1219320" cy="281916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fig-16-11"/>
          <p:cNvPicPr/>
          <p:nvPr/>
        </p:nvPicPr>
        <p:blipFill>
          <a:blip r:embed="rId1"/>
          <a:stretch/>
        </p:blipFill>
        <p:spPr>
          <a:xfrm>
            <a:off x="228600" y="228600"/>
            <a:ext cx="6534000" cy="64008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5562720" y="4876920"/>
            <a:ext cx="3581280" cy="1981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elah bekuan diperkuat terja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mekanis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Pertumbuhan sel memperba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mbuluh yang rusa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Fibrin secara perlahan dilarutk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leh plasmin, bekuan lar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il akhir pumbuluh int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5791320" y="6629400"/>
            <a:ext cx="457200" cy="0"/>
          </a:xfrm>
          <a:prstGeom prst="line">
            <a:avLst/>
          </a:prstGeom>
          <a:ln w="38160">
            <a:solidFill>
              <a:srgbClr val="e118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1219320" y="4952880"/>
            <a:ext cx="152280" cy="15264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152640"/>
              <a:gd name="textAreaBottom" fmla="*/ 145440 h 152640"/>
            </a:gdLst>
            <a:ahLst/>
            <a:rect l="textAreaLeft" t="textAreaTop" r="textAreaRight" b="textAreaBottom"/>
            <a:pathLst>
              <a:path w="21600" h="21651">
                <a:moveTo>
                  <a:pt x="3600" y="0"/>
                </a:moveTo>
                <a:arcTo wR="3600" hR="3600" stAng="16200000" swAng="-5400000"/>
                <a:lnTo>
                  <a:pt x="0" y="18051"/>
                </a:lnTo>
                <a:arcTo wR="3600" hR="3600" stAng="10800000" swAng="-5400000"/>
                <a:lnTo>
                  <a:pt x="18000" y="216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3809880" y="5638680"/>
            <a:ext cx="152640" cy="152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4"/>
          <p:cNvSpPr/>
          <p:nvPr/>
        </p:nvSpPr>
        <p:spPr>
          <a:xfrm>
            <a:off x="762120" y="152280"/>
            <a:ext cx="4800600" cy="20574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ubahan fibrinoge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b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"/>
          <p:cNvSpPr/>
          <p:nvPr/>
        </p:nvSpPr>
        <p:spPr>
          <a:xfrm>
            <a:off x="1523880" y="1447920"/>
            <a:ext cx="7621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2666880" y="3124080"/>
            <a:ext cx="6019920" cy="297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ain itu proses di atas diikuti ole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a proses lai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etraksi bekuan dara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ynere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isis bekuan darah (fibrinoli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7"/>
          <p:cNvSpPr/>
          <p:nvPr/>
        </p:nvSpPr>
        <p:spPr>
          <a:xfrm flipH="1" rot="10800000">
            <a:off x="1141560" y="2590560"/>
            <a:ext cx="1219320" cy="281916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AutoShape 4"/>
          <p:cNvSpPr/>
          <p:nvPr/>
        </p:nvSpPr>
        <p:spPr>
          <a:xfrm>
            <a:off x="2133720" y="2971800"/>
            <a:ext cx="6933960" cy="3733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lam bekuan darah banyak trombo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ang mengandung AT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berapa menit terbentuk bekuan dar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jadi kontraksi, serat – serat fibr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endek dan memeras cairan beku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u, disebut SER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dk terdpt pd pembekuan dara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5"/>
          <p:cNvSpPr/>
          <p:nvPr/>
        </p:nvSpPr>
        <p:spPr>
          <a:xfrm>
            <a:off x="685800" y="838080"/>
            <a:ext cx="6477120" cy="1600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Retraksi bekuan dara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yneresis) = Clot re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6"/>
          <p:cNvSpPr/>
          <p:nvPr/>
        </p:nvSpPr>
        <p:spPr>
          <a:xfrm flipH="1" rot="10800000">
            <a:off x="761760" y="2590560"/>
            <a:ext cx="1218960" cy="281916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4"/>
          <p:cNvSpPr/>
          <p:nvPr/>
        </p:nvSpPr>
        <p:spPr>
          <a:xfrm>
            <a:off x="304920" y="2666880"/>
            <a:ext cx="8839080" cy="3581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osta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ima: darah 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sis, Stoppage: penghentian, kemace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es hemostasis: Cara tubuh untuk menghentika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jaga darah pada kerusakan pembuluh dara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deda dengan Homeostas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304920" y="685800"/>
            <a:ext cx="548640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MOSTA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4"/>
          <p:cNvSpPr/>
          <p:nvPr/>
        </p:nvSpPr>
        <p:spPr>
          <a:xfrm>
            <a:off x="2819520" y="3276720"/>
            <a:ext cx="6324480" cy="289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 dlm plasma darah terdpt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nis globulin yg disebut Plasminog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 ini diaktifkan menjadi plas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ang merupakan enzim Proteoliti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zim ini mencern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ghancurkan fibr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152280" y="304920"/>
            <a:ext cx="5791320" cy="12189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isis bekuan darah (fibrinoli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6"/>
          <p:cNvSpPr/>
          <p:nvPr/>
        </p:nvSpPr>
        <p:spPr>
          <a:xfrm flipH="1" rot="10800000">
            <a:off x="1218960" y="1828800"/>
            <a:ext cx="1218960" cy="281952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4"/>
          <p:cNvSpPr/>
          <p:nvPr/>
        </p:nvSpPr>
        <p:spPr>
          <a:xfrm>
            <a:off x="228600" y="76320"/>
            <a:ext cx="8610480" cy="25146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ksi – reaksi pembatas yg normal mencega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jadi pembekuan di pembuluh yg tidak mengalam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dera dan mempertahakan darah berada d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aadaan c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228600" y="2286000"/>
            <a:ext cx="8534520" cy="4572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ktor – faktor yang ikut serta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ndotelium pembuluh darah dan kolagen y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lapisi bagian baw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onus vasku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rombo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istem pembeku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Fibrinolit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Sifat – sifat aliran drh dlm pembuluh dr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4"/>
          <p:cNvSpPr/>
          <p:nvPr/>
        </p:nvSpPr>
        <p:spPr>
          <a:xfrm>
            <a:off x="3048120" y="3657600"/>
            <a:ext cx="5867280" cy="297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mboplastin ada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issue tromboplas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keluarkan oleh jaringan y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galami kerusakan (trau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lasma tromboplas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dapat di dalam plas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762120" y="152280"/>
            <a:ext cx="4572000" cy="12956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rombin aktiv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2286000" y="1752480"/>
            <a:ext cx="6019920" cy="167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han yang dapat menguba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rombin menjadi tromb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lu disebut Tromboplas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4"/>
          <p:cNvSpPr/>
          <p:nvPr/>
        </p:nvSpPr>
        <p:spPr>
          <a:xfrm>
            <a:off x="228600" y="304920"/>
            <a:ext cx="6553080" cy="14475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fat – sifat utama trombosit (platel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3276720" y="3124080"/>
            <a:ext cx="571500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dh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Vasokontruk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ggreg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Penting dlm clot retrak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Berperan sbg anti hepa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 flipH="1" rot="10800000">
            <a:off x="1141560" y="2057400"/>
            <a:ext cx="1219320" cy="281952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4"/>
          <p:cNvSpPr/>
          <p:nvPr/>
        </p:nvSpPr>
        <p:spPr>
          <a:xfrm>
            <a:off x="2514600" y="1752480"/>
            <a:ext cx="1219320" cy="373392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3733920"/>
              <a:gd name="textAreaBottom" fmla="*/ 3674520 h 3733920"/>
            </a:gdLst>
            <a:ahLst/>
            <a:rect l="textAreaLeft" t="textAreaTop" r="textAreaRight" b="textAreaBottom"/>
            <a:pathLst>
              <a:path w="21600" h="66132">
                <a:moveTo>
                  <a:pt x="3600" y="0"/>
                </a:moveTo>
                <a:arcTo wR="3600" hR="3600" stAng="16200000" swAng="-5400000"/>
                <a:lnTo>
                  <a:pt x="0" y="62532"/>
                </a:lnTo>
                <a:arcTo wR="3600" hR="3600" stAng="10800000" swAng="-5400000"/>
                <a:lnTo>
                  <a:pt x="18000" y="661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2133720" y="152280"/>
            <a:ext cx="2057400" cy="914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k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ku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r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2895480" y="198108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2895480" y="259092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2895480" y="320040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2895480" y="380988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2895480" y="472428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>
            <a:off x="4952880" y="2590920"/>
            <a:ext cx="40388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hromb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>
            <a:off x="4952880" y="1905120"/>
            <a:ext cx="40388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rin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3"/>
          <p:cNvSpPr/>
          <p:nvPr/>
        </p:nvSpPr>
        <p:spPr>
          <a:xfrm>
            <a:off x="4952880" y="3200400"/>
            <a:ext cx="40388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elet factor 3, trombo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4"/>
          <p:cNvSpPr/>
          <p:nvPr/>
        </p:nvSpPr>
        <p:spPr>
          <a:xfrm>
            <a:off x="4952880" y="3886200"/>
            <a:ext cx="40388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s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5"/>
          <p:cNvSpPr/>
          <p:nvPr/>
        </p:nvSpPr>
        <p:spPr>
          <a:xfrm>
            <a:off x="4724280" y="4572000"/>
            <a:ext cx="434340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ile faktor, Proacceleri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or globulin; Ac-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7"/>
          <p:cNvSpPr/>
          <p:nvPr/>
        </p:nvSpPr>
        <p:spPr>
          <a:xfrm>
            <a:off x="5486400" y="1143000"/>
            <a:ext cx="20574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9"/>
          <p:cNvSpPr/>
          <p:nvPr/>
        </p:nvSpPr>
        <p:spPr>
          <a:xfrm>
            <a:off x="2362320" y="1143000"/>
            <a:ext cx="1752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k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1"/>
          <p:cNvSpPr/>
          <p:nvPr/>
        </p:nvSpPr>
        <p:spPr>
          <a:xfrm>
            <a:off x="3886200" y="2133720"/>
            <a:ext cx="6858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"/>
          <p:cNvSpPr/>
          <p:nvPr/>
        </p:nvSpPr>
        <p:spPr>
          <a:xfrm>
            <a:off x="3886200" y="2819520"/>
            <a:ext cx="6858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3"/>
          <p:cNvSpPr/>
          <p:nvPr/>
        </p:nvSpPr>
        <p:spPr>
          <a:xfrm>
            <a:off x="3886200" y="3429000"/>
            <a:ext cx="6858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4"/>
          <p:cNvSpPr/>
          <p:nvPr/>
        </p:nvSpPr>
        <p:spPr>
          <a:xfrm>
            <a:off x="3886200" y="4114800"/>
            <a:ext cx="6858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5"/>
          <p:cNvSpPr/>
          <p:nvPr/>
        </p:nvSpPr>
        <p:spPr>
          <a:xfrm>
            <a:off x="3886200" y="4952880"/>
            <a:ext cx="6858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4"/>
          <p:cNvSpPr/>
          <p:nvPr/>
        </p:nvSpPr>
        <p:spPr>
          <a:xfrm>
            <a:off x="2362320" y="152280"/>
            <a:ext cx="2057400" cy="914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k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ku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r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2438280" y="1295280"/>
            <a:ext cx="17528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k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2514600" y="1981080"/>
            <a:ext cx="1219320" cy="373392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3733920"/>
              <a:gd name="textAreaBottom" fmla="*/ 3674520 h 3733920"/>
            </a:gdLst>
            <a:ahLst/>
            <a:rect l="textAreaLeft" t="textAreaTop" r="textAreaRight" b="textAreaBottom"/>
            <a:pathLst>
              <a:path w="21600" h="66132">
                <a:moveTo>
                  <a:pt x="3600" y="0"/>
                </a:moveTo>
                <a:arcTo wR="3600" hR="3600" stAng="16200000" swAng="-5400000"/>
                <a:lnTo>
                  <a:pt x="0" y="62532"/>
                </a:lnTo>
                <a:arcTo wR="3600" hR="3600" stAng="10800000" swAng="-5400000"/>
                <a:lnTo>
                  <a:pt x="18000" y="661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5638680" y="1295280"/>
            <a:ext cx="20574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2895480" y="266688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4724280" y="1981080"/>
            <a:ext cx="4343400" cy="1905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um prothromb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ion acceleration;SP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onvertin 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prothombin 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0"/>
          <p:cNvSpPr/>
          <p:nvPr/>
        </p:nvSpPr>
        <p:spPr>
          <a:xfrm>
            <a:off x="2819520" y="4648320"/>
            <a:ext cx="609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1"/>
          <p:cNvSpPr/>
          <p:nvPr/>
        </p:nvSpPr>
        <p:spPr>
          <a:xfrm>
            <a:off x="4876920" y="4495680"/>
            <a:ext cx="426708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hemophilic factor; AHF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hemofilik globulin;AH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2"/>
          <p:cNvSpPr/>
          <p:nvPr/>
        </p:nvSpPr>
        <p:spPr>
          <a:xfrm>
            <a:off x="3886200" y="2819520"/>
            <a:ext cx="6858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"/>
          <p:cNvSpPr/>
          <p:nvPr/>
        </p:nvSpPr>
        <p:spPr>
          <a:xfrm>
            <a:off x="3886200" y="4952880"/>
            <a:ext cx="6858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4"/>
          <p:cNvSpPr/>
          <p:nvPr/>
        </p:nvSpPr>
        <p:spPr>
          <a:xfrm>
            <a:off x="2362320" y="152280"/>
            <a:ext cx="2057400" cy="914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k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ku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r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2438280" y="1295280"/>
            <a:ext cx="17528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k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6"/>
          <p:cNvSpPr/>
          <p:nvPr/>
        </p:nvSpPr>
        <p:spPr>
          <a:xfrm>
            <a:off x="2514600" y="1981080"/>
            <a:ext cx="1219320" cy="373392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3733920"/>
              <a:gd name="textAreaBottom" fmla="*/ 3674520 h 3733920"/>
            </a:gdLst>
            <a:ahLst/>
            <a:rect l="textAreaLeft" t="textAreaTop" r="textAreaRight" b="textAreaBottom"/>
            <a:pathLst>
              <a:path w="21600" h="66132">
                <a:moveTo>
                  <a:pt x="3600" y="0"/>
                </a:moveTo>
                <a:arcTo wR="3600" hR="3600" stAng="16200000" swAng="-5400000"/>
                <a:lnTo>
                  <a:pt x="0" y="62532"/>
                </a:lnTo>
                <a:arcTo wR="3600" hR="3600" stAng="10800000" swAng="-5400000"/>
                <a:lnTo>
                  <a:pt x="18000" y="661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2743200" y="2514600"/>
            <a:ext cx="609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8"/>
          <p:cNvSpPr/>
          <p:nvPr/>
        </p:nvSpPr>
        <p:spPr>
          <a:xfrm>
            <a:off x="5638680" y="1295280"/>
            <a:ext cx="20574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9"/>
          <p:cNvSpPr/>
          <p:nvPr/>
        </p:nvSpPr>
        <p:spPr>
          <a:xfrm>
            <a:off x="5257800" y="1981080"/>
            <a:ext cx="38098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TC, Chrismas fakto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 prothrombin 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0"/>
          <p:cNvSpPr/>
          <p:nvPr/>
        </p:nvSpPr>
        <p:spPr>
          <a:xfrm>
            <a:off x="2743200" y="3581280"/>
            <a:ext cx="609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5257800" y="3276720"/>
            <a:ext cx="38098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art Prower fakt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 prothrombin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2"/>
          <p:cNvSpPr/>
          <p:nvPr/>
        </p:nvSpPr>
        <p:spPr>
          <a:xfrm>
            <a:off x="3886200" y="2666880"/>
            <a:ext cx="6858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3"/>
          <p:cNvSpPr/>
          <p:nvPr/>
        </p:nvSpPr>
        <p:spPr>
          <a:xfrm>
            <a:off x="3962520" y="3886200"/>
            <a:ext cx="6858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4"/>
          <p:cNvSpPr/>
          <p:nvPr/>
        </p:nvSpPr>
        <p:spPr>
          <a:xfrm>
            <a:off x="2743200" y="4800600"/>
            <a:ext cx="609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5"/>
          <p:cNvSpPr/>
          <p:nvPr/>
        </p:nvSpPr>
        <p:spPr>
          <a:xfrm>
            <a:off x="5257800" y="4572000"/>
            <a:ext cx="3809880" cy="106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ma thromboplas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cedent, P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6"/>
          <p:cNvSpPr/>
          <p:nvPr/>
        </p:nvSpPr>
        <p:spPr>
          <a:xfrm>
            <a:off x="3962520" y="5029200"/>
            <a:ext cx="6858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4"/>
          <p:cNvSpPr/>
          <p:nvPr/>
        </p:nvSpPr>
        <p:spPr>
          <a:xfrm>
            <a:off x="2362320" y="152280"/>
            <a:ext cx="2057400" cy="914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k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ku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r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2438280" y="1295280"/>
            <a:ext cx="17528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k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2514600" y="1981080"/>
            <a:ext cx="1219320" cy="228600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40490">
                <a:moveTo>
                  <a:pt x="3600" y="0"/>
                </a:moveTo>
                <a:arcTo wR="3600" hR="3600" stAng="16200000" swAng="-5400000"/>
                <a:lnTo>
                  <a:pt x="0" y="36890"/>
                </a:lnTo>
                <a:arcTo wR="3600" hR="3600" stAng="10800000" swAng="-5400000"/>
                <a:lnTo>
                  <a:pt x="18000" y="404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7"/>
          <p:cNvSpPr/>
          <p:nvPr/>
        </p:nvSpPr>
        <p:spPr>
          <a:xfrm>
            <a:off x="5486400" y="1295280"/>
            <a:ext cx="20574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8"/>
          <p:cNvSpPr/>
          <p:nvPr/>
        </p:nvSpPr>
        <p:spPr>
          <a:xfrm>
            <a:off x="5257800" y="2209680"/>
            <a:ext cx="38098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geman fak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9"/>
          <p:cNvSpPr/>
          <p:nvPr/>
        </p:nvSpPr>
        <p:spPr>
          <a:xfrm>
            <a:off x="2743200" y="2286000"/>
            <a:ext cx="609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0"/>
          <p:cNvSpPr/>
          <p:nvPr/>
        </p:nvSpPr>
        <p:spPr>
          <a:xfrm>
            <a:off x="2743200" y="3429000"/>
            <a:ext cx="609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1"/>
          <p:cNvSpPr/>
          <p:nvPr/>
        </p:nvSpPr>
        <p:spPr>
          <a:xfrm>
            <a:off x="5257800" y="3276720"/>
            <a:ext cx="380988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rin - stabili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2"/>
          <p:cNvSpPr/>
          <p:nvPr/>
        </p:nvSpPr>
        <p:spPr>
          <a:xfrm>
            <a:off x="3886200" y="2514600"/>
            <a:ext cx="6858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3"/>
          <p:cNvSpPr/>
          <p:nvPr/>
        </p:nvSpPr>
        <p:spPr>
          <a:xfrm>
            <a:off x="3886200" y="3657600"/>
            <a:ext cx="6858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4"/>
          <p:cNvSpPr/>
          <p:nvPr/>
        </p:nvSpPr>
        <p:spPr>
          <a:xfrm>
            <a:off x="152280" y="152280"/>
            <a:ext cx="6629400" cy="1600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– test dlm proses koagulasi dar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2819520" y="2590920"/>
            <a:ext cx="6248160" cy="3352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edi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tti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rombi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mple r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t retraktio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"/>
          <p:cNvSpPr/>
          <p:nvPr/>
        </p:nvSpPr>
        <p:spPr>
          <a:xfrm flipH="1" rot="10800000">
            <a:off x="1065240" y="1981080"/>
            <a:ext cx="1219320" cy="281952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4"/>
          <p:cNvSpPr/>
          <p:nvPr/>
        </p:nvSpPr>
        <p:spPr>
          <a:xfrm>
            <a:off x="2286000" y="1143000"/>
            <a:ext cx="4267080" cy="18288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oh anti koagu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5181480" y="4267080"/>
            <a:ext cx="3581640" cy="2057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pa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kuma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fa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 flipH="1" rot="10800000">
            <a:off x="3351600" y="3047760"/>
            <a:ext cx="1219320" cy="281916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4"/>
          <p:cNvSpPr/>
          <p:nvPr/>
        </p:nvSpPr>
        <p:spPr>
          <a:xfrm>
            <a:off x="304920" y="685800"/>
            <a:ext cx="548640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MOSTA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2133720" y="3200400"/>
            <a:ext cx="701028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ghentikan perdarahan dari putus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mbuluh darah sehingga menyetop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ghentikan pendara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 flipH="1" rot="10800000">
            <a:off x="684360" y="2286000"/>
            <a:ext cx="1219320" cy="228600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2209680" y="5334120"/>
            <a:ext cx="6934320" cy="1447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cegah kehilangan darah dar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usakan pembuluh darah ke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4"/>
          <p:cNvSpPr/>
          <p:nvPr/>
        </p:nvSpPr>
        <p:spPr>
          <a:xfrm flipH="1">
            <a:off x="457200" y="1066680"/>
            <a:ext cx="2362320" cy="7621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pa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533520" y="1828800"/>
            <a:ext cx="8458200" cy="8380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atu antikoagulan alami, mempermudah kerja anti tromb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6"/>
          <p:cNvSpPr/>
          <p:nvPr/>
        </p:nvSpPr>
        <p:spPr>
          <a:xfrm>
            <a:off x="533520" y="3505320"/>
            <a:ext cx="4952880" cy="7617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kumarol dan walfa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7"/>
          <p:cNvSpPr/>
          <p:nvPr/>
        </p:nvSpPr>
        <p:spPr>
          <a:xfrm>
            <a:off x="762120" y="4343400"/>
            <a:ext cx="7924680" cy="12952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at kumarin, merupakan antikoagulan efektif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ja menghambat Vitamin K, vik K merupakan kofak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ang diperlukan oleh: faktor II, VII, IX, X, protein C &amp;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4"/>
          <p:cNvSpPr/>
          <p:nvPr/>
        </p:nvSpPr>
        <p:spPr>
          <a:xfrm>
            <a:off x="609480" y="228600"/>
            <a:ext cx="8534520" cy="32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mbentukkan bekuan di dlm pembulu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ah = Trombus. Trombus dpt menyebab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yakit  pada pembuluh darah, sebabk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ran darah lambat. Terutama pada vena tungka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elah operasi atau melahirk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2666880" y="3886200"/>
            <a:ext cx="6172200" cy="2209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a trombus ini terjadi pd pembulu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ah dapat menyebabk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ebalan dinding pembuluh dara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ebut </a:t>
            </a:r>
            <a:r>
              <a:rPr b="0" lang="en-US" sz="2800" spc="-1" strike="noStrike">
                <a:solidFill>
                  <a:srgbClr val="e11803"/>
                </a:solidFill>
                <a:latin typeface="Arial"/>
              </a:rPr>
              <a:t>ARTERIOSKERO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4"/>
          <p:cNvSpPr/>
          <p:nvPr/>
        </p:nvSpPr>
        <p:spPr>
          <a:xfrm>
            <a:off x="0" y="1523880"/>
            <a:ext cx="9144000" cy="358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fat lain dari trombus dpt lepas dari di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mbuluh darah dan berenang menyumb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mbuluh darah jantung dan paru yg menye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bkan kematian mendadak atau </a:t>
            </a:r>
            <a:r>
              <a:rPr b="0" lang="en-US" sz="3200" spc="-1" strike="noStrike">
                <a:solidFill>
                  <a:srgbClr val="e11803"/>
                </a:solidFill>
                <a:latin typeface="Arial"/>
              </a:rPr>
              <a:t>sudden de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yumbat pembuluh darah otak menyebabk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AutoShape 4"/>
          <p:cNvSpPr/>
          <p:nvPr/>
        </p:nvSpPr>
        <p:spPr>
          <a:xfrm>
            <a:off x="304920" y="685800"/>
            <a:ext cx="8839080" cy="5486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cegahan pembekuan di dlm sistem pembulu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ah yg normal </a:t>
            </a:r>
            <a:r>
              <a:rPr b="0" lang="en-US" sz="2800" spc="-1" strike="noStrike" u="sng">
                <a:solidFill>
                  <a:srgbClr val="e11803"/>
                </a:solidFill>
                <a:uFillTx/>
                <a:latin typeface="Arial"/>
              </a:rPr>
              <a:t>Ata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rah di dlm pembulu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ah yg normal, tidak terjadi pembeku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bab – sebab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ndotelium pembuluh darah yg li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apisan protein muatan negatif melapisi endot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olak trombo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danya zat – zat anti koagulan di dlm dara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heparin &amp; antitrombi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erat –serat fibrin dlm bekuan dara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gapsorpsi hampir seluruh trombin mencega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luasnya bekuan dara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AutoShape 4"/>
          <p:cNvSpPr/>
          <p:nvPr/>
        </p:nvSpPr>
        <p:spPr>
          <a:xfrm>
            <a:off x="76320" y="609480"/>
            <a:ext cx="6172200" cy="13716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lainan – kelainnan Hemost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3200400" y="3352680"/>
            <a:ext cx="579132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emofilia A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kurangan faktor V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emofilia B (penyakit Christma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kurangan faktor 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/>
          <p:cNvSpPr/>
          <p:nvPr/>
        </p:nvSpPr>
        <p:spPr>
          <a:xfrm flipH="1" rot="10800000">
            <a:off x="1751400" y="2286000"/>
            <a:ext cx="1219320" cy="281952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AutoShape 4"/>
          <p:cNvSpPr/>
          <p:nvPr/>
        </p:nvSpPr>
        <p:spPr>
          <a:xfrm>
            <a:off x="304920" y="0"/>
            <a:ext cx="6933960" cy="16765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lainan – kelainnan Hemost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5"/>
          <p:cNvSpPr/>
          <p:nvPr/>
        </p:nvSpPr>
        <p:spPr>
          <a:xfrm>
            <a:off x="2057400" y="1752480"/>
            <a:ext cx="7086600" cy="4876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Penyakit Afibrinogenemia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jadi pd kehamilan dgn lepasny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enta sebelum waktun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Penyakit Von Willebrand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ebabkan turunnya faktor Willebra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perpanjang perdarah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ktor Willebrand + Faktor VIII menja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leks mengatur kadarnya dal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6"/>
          <p:cNvSpPr/>
          <p:nvPr/>
        </p:nvSpPr>
        <p:spPr>
          <a:xfrm flipH="1" rot="10800000">
            <a:off x="685440" y="2057400"/>
            <a:ext cx="990720" cy="236232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AutoShape 4"/>
          <p:cNvSpPr/>
          <p:nvPr/>
        </p:nvSpPr>
        <p:spPr>
          <a:xfrm>
            <a:off x="304920" y="0"/>
            <a:ext cx="6933960" cy="16765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lainan – kelainnan Hemost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2057400" y="2057400"/>
            <a:ext cx="7086600" cy="297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Hipoprotrombinem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siensi faktor II, kecenderungan 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ahan pada penyakit ha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Parahemofil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siensi faktor 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 flipH="1" rot="10800000">
            <a:off x="685440" y="2057400"/>
            <a:ext cx="990720" cy="236232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fig-16-14"/>
          <p:cNvPicPr/>
          <p:nvPr/>
        </p:nvPicPr>
        <p:blipFill>
          <a:blip r:embed="rId1"/>
          <a:stretch/>
        </p:blipFill>
        <p:spPr>
          <a:xfrm>
            <a:off x="0" y="378000"/>
            <a:ext cx="8915400" cy="51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0" y="685800"/>
            <a:ext cx="88390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juk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verthorn D.U “ Human physiology an integrated Approach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ed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rwood L.” Human physiology from cells to systems. Fourt 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ong W.” Review of Medical Physiology.”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4"/>
          <p:cNvSpPr/>
          <p:nvPr/>
        </p:nvSpPr>
        <p:spPr>
          <a:xfrm>
            <a:off x="304920" y="228600"/>
            <a:ext cx="487656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SES HEMOST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514600" y="3962520"/>
            <a:ext cx="6400800" cy="213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stiwa ini terjadi ada 3 tahapan may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so Konstriksi lokal/spasme vask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batan trombosit/platel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es pembekuan dar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6"/>
          <p:cNvSpPr/>
          <p:nvPr/>
        </p:nvSpPr>
        <p:spPr>
          <a:xfrm flipH="1" rot="10800000">
            <a:off x="761760" y="3047760"/>
            <a:ext cx="1218960" cy="281916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4"/>
          <p:cNvSpPr/>
          <p:nvPr/>
        </p:nvSpPr>
        <p:spPr>
          <a:xfrm>
            <a:off x="0" y="609480"/>
            <a:ext cx="6324480" cy="1067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. Vaso Konstraksi/spasme vasku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2362320" y="2514600"/>
            <a:ext cx="6781680" cy="4038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a pembuluh darah mengalami kerusak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obek/terpotong) dinding pembuluh dara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rkontraksi lumen menjadi semp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l ini terjadi karena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k saraf yang menimbulkan  ra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yeri pada pembuluh dar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Thromboksan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ri fosfolipid memb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mbosit,  vasokonstriksi pembulu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 flipH="1" rot="10800000">
            <a:off x="912960" y="2209680"/>
            <a:ext cx="1219320" cy="281952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4"/>
          <p:cNvSpPr/>
          <p:nvPr/>
        </p:nvSpPr>
        <p:spPr>
          <a:xfrm>
            <a:off x="2057400" y="2209680"/>
            <a:ext cx="6934320" cy="426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Kontraksi miogin setempat dari d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mbuluh darah yang rusak ak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bul potensial ak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Endotil pembuluh darah yang rusak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pisan kolagen keluar, trombos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lekat pd kolagen &amp; melepask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otonin yang bersifat vas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struk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228600" y="228600"/>
            <a:ext cx="647712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. Vaso Konstraksi/spasme vasku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 flipH="1" rot="10800000">
            <a:off x="455760" y="2286000"/>
            <a:ext cx="1219320" cy="281952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fig-16-12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472752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5"/>
          <p:cNvSpPr/>
          <p:nvPr/>
        </p:nvSpPr>
        <p:spPr>
          <a:xfrm>
            <a:off x="152280" y="5486400"/>
            <a:ext cx="8686800" cy="114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mbuluh darah yang utuh mengeluarkan Prostasiklin d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it oksida (NO) mencegah trombosit melekat pada din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mbuluh dar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4"/>
          <p:cNvSpPr/>
          <p:nvPr/>
        </p:nvSpPr>
        <p:spPr>
          <a:xfrm>
            <a:off x="457200" y="457200"/>
            <a:ext cx="5867280" cy="15238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batan trombosit/platel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685800" y="3809880"/>
            <a:ext cx="601992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ain serotonin, trombosit melekat p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pisan kolagen melepaskan ADP ya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mlahnya bany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1295280" y="1981080"/>
            <a:ext cx="1143000" cy="1600200"/>
          </a:xfrm>
          <a:prstGeom prst="downArrow">
            <a:avLst>
              <a:gd name="adj1" fmla="val 50000"/>
              <a:gd name="adj2" fmla="val 35000"/>
            </a:avLst>
          </a:prstGeom>
          <a:solidFill>
            <a:srgbClr val="cc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4"/>
          <p:cNvSpPr/>
          <p:nvPr/>
        </p:nvSpPr>
        <p:spPr>
          <a:xfrm>
            <a:off x="2209680" y="2438280"/>
            <a:ext cx="6782040" cy="32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gsi ADP mengaktivasi trombos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innya yang berdekatan sehingga trombos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 tertarik terbentuklah suatu sumbat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ri masa trombosit yang agak longgar bi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usakan pembuluh darah kecil, sumbat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 sudah cukup untuk mencegah perdarah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152280" y="76320"/>
            <a:ext cx="5867640" cy="15238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batan trombosit Sement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 flipH="1" rot="10800000">
            <a:off x="836640" y="1828800"/>
            <a:ext cx="1219320" cy="281952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ki</dc:creator>
  <dc:description/>
  <dc:language>en-US</dc:language>
  <cp:lastModifiedBy>uki</cp:lastModifiedBy>
  <dcterms:modified xsi:type="dcterms:W3CDTF">2011-05-04T03:57:10Z</dcterms:modified>
  <cp:revision>61</cp:revision>
  <dc:subject/>
  <dc:title>PowerPoint Presentation</dc:title>
</cp:coreProperties>
</file>