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826-13DF-4421-8FD3-10899784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5DE-06FF-40DA-A98B-26B82E95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DB0-7963-4640-AC5C-FA5C7E14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360-746B-45F0-9972-EA02E86B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F9BB-1320-41E2-9462-5AE36DC1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3887-0F98-43A2-B552-997310D1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1D13-6300-44B0-9050-F0EECF45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5348-1393-476E-BA47-9AB220A6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C08F-16E5-47CD-8DB8-96448A6E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6517-A26B-448C-A41D-7731BD42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786-22A8-448E-B2ED-CEC3AC8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F8E-8DEC-4BF9-8241-CEEF812C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924F-6424-4746-B76A-0E991400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8677-64AD-40EA-8503-E62C800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CC1F-9E4F-4FFE-AD79-134C8DFA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A34F-628D-4F03-B367-9DE77CF6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135F-E206-44C4-AA92-21887225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885D-0F7E-41A6-8F90-60CC2EFD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6184-6DDD-46CE-A9B3-5F106576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4C94-C873-4CBD-B9BF-F5CCA6D8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ED5C-5751-4D04-8433-A145C780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A9A3-8595-491A-A1F7-5C8C66F6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855-DDE3-4341-B5AE-9BCE96A3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18B7-6FA8-43AE-8506-84C20A50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48CB-500D-46BF-AC17-48C8F150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E17B-70F7-412B-90D4-0457EA1A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1AD9-083C-4A79-BC91-CD15AA2D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D7EA-B36F-4708-BC65-A2E7B95A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89AF-4434-491A-ACB3-C07690CB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2BB5-5984-4D73-A9D0-AE87F884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9D5F1-00A6-41C5-AFB0-000ED7BF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1D4A-3186-4D72-A23C-BA27D13E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E318-1FDE-4C6C-B0DD-F402EF38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97E-95BE-4638-B7D7-19CBF988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2BC7-9508-4641-91A6-A96A7748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E922-D7EC-4824-B73B-51BF35F5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5E91-B4E5-4D53-B565-F29FD960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D5B1B-F6C6-4CF6-BDB0-7DB9922B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21DBE-95CD-4CF3-A7EA-838C6D87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4524E-0D53-43D5-BC69-E851AE2D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9C75-62F2-4FAF-84A5-C8D14DBA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02E5-4C7C-4F9D-BD98-F451A690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7EB3F-E1B6-4070-BA1F-FD522BD3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233C1-0805-47A9-BE3B-5E32E5D1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0E3-C2ED-4853-8003-071F9541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C0BD8-4A67-4592-BF93-F65F522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3AF7-8F66-40EA-833D-AEAB9234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1673C-52F8-4740-8E0F-FCA00BE2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17124-599D-4F01-8F09-8CC9D394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807F0-1B7D-43EA-AC98-A5969DB3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17782-A598-41CF-8509-5A4AEF8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5A3E-1EE5-43FA-BD04-155D71CD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B212-CECE-4B77-BEFB-A681029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A9618-DE52-4D96-A9D8-3E160C2E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CF0BE-C4B4-492F-90EC-F565C41F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543-29F3-46E1-B63B-F68131E6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64EE1-5C4D-4DAB-996B-2447F157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C848-3023-4332-8685-2E53B4E6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1A180-6091-465F-B2E1-AAAB4634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BF1F4-ED9A-4274-A721-4DDAC8C7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8F5AC-DFFD-45E2-BD49-9BD13A4F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48800-7871-416B-A3B8-EAE1FFCA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5555-DD13-4792-9546-FDB9F491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70578-4C83-4639-A230-57B47C39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8266-DF66-4BE6-B8CA-4D867A1D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DF0F3-2851-441F-8679-D4EA0BE4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127-A042-4E64-86B7-4C53B6BC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231C9-7F5A-4618-8BDA-3F6A4096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3A48-2683-4EF8-A413-35294187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07C78-9220-4C82-B1F4-F087CED1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428C0-C4B6-4B71-85A4-D62CD1A4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21A95-9AAC-482D-98AC-D6B5C703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09C84-4BBB-447B-BD60-B44FE901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42543-FCA9-4B93-9271-367F1C81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69301-5A61-4E48-8E17-4BDF1567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76961-2155-41AE-979E-05322EC2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304C7-0D80-4191-8122-E9D76311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92A-1E4F-443A-9A98-D5B72E9E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F4B9F-2164-4C96-A38E-6FD7D38D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4ACB3-0C20-4352-8A85-CD41851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D5D59-ED38-4623-8A88-D4CBB3A2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673B2-DA1D-49E5-B6D5-6E55F321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BB632-5B41-4B9D-A37C-CE14939A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5E6-6365-4FF4-ADD7-047FA52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873A-8C00-406E-89A2-2561F40968A1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ângulo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tângulo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tângulo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tângulo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tângulo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tângulo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BB49-8318-493C-811F-6C7A6E50F161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orma livre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orma livre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rma livre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orma livre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orma livre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orma livre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orma livre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rma livre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orma livre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rma livre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rma livre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orma livre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rma livre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orma livre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orma livre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tângulo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tângulo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tângulo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tângulo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2891-9CC9-476B-9A66-66063EE6AA7B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6919-A866-4D49-8984-9C65939655D7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ângulo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tângulo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tângulo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tângulo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tângulo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tângulo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tângulo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tângulo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tângulo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AA7B-F828-4515-AD0B-0A97E29DE1C5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E81D-0AD4-4084-A8FA-51DFFC4E3ABE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tângulo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Conector reto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upo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Conector reto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Conector reto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Conector reto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upo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Conector reto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Conector reto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Conector reto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upo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Conector reto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Conector reto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Conector reto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0D5B-1D21-4292-BDE8-E08D607EA6F6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ítulo 1" descr=""/>
          <p:cNvPicPr/>
          <p:nvPr/>
        </p:nvPicPr>
        <p:blipFill>
          <a:blip r:embed="rId1"/>
          <a:stretch/>
        </p:blipFill>
        <p:spPr>
          <a:xfrm>
            <a:off x="457200" y="1163520"/>
            <a:ext cx="8010360" cy="25178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494496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Prof. Cassiano Monteiro Net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Conservação e Manejo de Ecossistemas Aquático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Laboratório ECOPESC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Departamento de Biologia Marinh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Insttuto de Biologia - UFF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905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Categorais de Áreas Protegid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2503080"/>
            <a:ext cx="77724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Definição: espaço geográfico claramente definido, reconhecido, dedicado e gerido, através de meios legais ou outros igualmente eficientes, com o fim de obter a conservação ao longo do tempo da natureza com os serviços associados ao ecossistema e os valores culturais.</a:t>
            </a:r>
            <a:r>
              <a:rPr b="0" lang="pt-BR" sz="3000" spc="-1" strike="noStrike" u="sng" baseline="30000">
                <a:solidFill>
                  <a:srgbClr val="eb8803"/>
                </a:solidFill>
                <a:uFillTx/>
                <a:latin typeface="Corbel"/>
                <a:hlinkClick r:id="rId1" action="ppaction://hlinksldjump"/>
              </a:rPr>
              <a:t>[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Categorias da UIC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1280" y="155736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Corbel"/>
              </a:rPr>
              <a:t>“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rbel"/>
              </a:rPr>
              <a:t>PROTEÇÃO INTEGRAL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Reservas Naturais e Áreas Virgens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– uso restrito a estudos científicos, educação e monitoramento ambienta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Reservas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 – recursos preservados para o futuro. Uso controlado dos recursos de acordo com as políticas nacionai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Santuários e Reservas Naturais Manejadas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- semelhante a categoria 1, manejo e extrativismo visam a manutenção dos processos e das populações desejávei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Áreas Naturais Bióticas e Reservas Antropológicas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– manutenção do modo de vida das sociedades tradicionai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Categorias da UIC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1280" y="1052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Corbel"/>
              </a:rPr>
              <a:t>“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rbel"/>
              </a:rPr>
              <a:t>USO SUSTENTÁVEL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Parques Nacionais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- beleza natural e cênica, proteção a um ou mais ecossistemas, uso científico, educacional e recreativo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Áreas  de Monitoramento de Referência Nacional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- reservas menores, preservação de características biológicas geológicas ou culturais singular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Áreas de Proteção Ambiental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– uso tradicional não destrutivo do M.A. pela população, oportunidades ao turismo e recreação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Áreas de Manejo e Uso Múltiplo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- oportunidade de utilização sustentável dos recursos naturais (água, vida selvagem, extração de madeira, turismo, pesca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Porque estabelecer categorias?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ategorizar – sistematizar, organizar e estabelecer priorida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Estabelecer o status de conservação das espéc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Estabelecer o status de conservação dos ecossistem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Propor medidas para conservaçã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1eeff"/>
                </a:solidFill>
                <a:latin typeface="Consolas"/>
              </a:rPr>
              <a:t>Categorias de Conservação de Espéci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Corbel"/>
              </a:rPr>
              <a:t>UICN – União Mundial para Conservação (UICN 1984, 1988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Corbel"/>
              </a:rPr>
              <a:t>Espécies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Corbel"/>
              </a:rPr>
              <a:t>Extintas</a:t>
            </a: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 – não existem mais no ambiente natur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Corbel"/>
              </a:rPr>
              <a:t>Em perigo</a:t>
            </a:r>
            <a:r>
              <a:rPr b="1" lang="pt-BR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– grande probabilidade de extinção em um futuro próxim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Corbel"/>
              </a:rPr>
              <a:t>Vulneráveis</a:t>
            </a: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 – podem se tornar ameaçadas no futuro próximo (redução populacional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Corbel"/>
              </a:rPr>
              <a:t>Raras</a:t>
            </a: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 – número naturalmente raro de indivíduos (distribuição geográfica limitada, baixa densidade populacional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Corbel"/>
              </a:rPr>
              <a:t>Insuficientemente conhecidas</a:t>
            </a:r>
            <a:r>
              <a:rPr b="1" lang="pt-BR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– provavelmente pertencem a uma das categorias acima mas não são suficientemente conhecidas para serem classificada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orbel"/>
              </a:rPr>
              <a:t>Livro Vermelho das Espécies </a:t>
            </a:r>
            <a:r>
              <a:rPr b="0" lang="pt-BR" sz="2300" spc="-1" strike="noStrike">
                <a:solidFill>
                  <a:srgbClr val="ffffff"/>
                </a:solidFill>
                <a:latin typeface="Corbel"/>
              </a:rPr>
              <a:t>– avaliação de 60.000 plantas e 2.000 espécies de animais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1eeff"/>
                </a:solidFill>
                <a:latin typeface="Consolas"/>
              </a:rPr>
              <a:t>Dificuldades para Categorizar Espéci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Estudos para determinar a densidade demográfica e tendência populacional (tempo e dinheiro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Os estudos devem abranger toda a área de ocorrência (dificuldades logística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Categorias podem não ser adequadas para determinados grupos taxonômicos (ex. inseto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Espécies não observadas por muitos anos não são listadas como ameaçadas por falta de estudos específic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Critérios subjetivos – lobby de cientistas e organizações podem priorizar determinados grupos em detrimento de outr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Critério de Mace &amp; Lande (1991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24000" y="2104560"/>
            <a:ext cx="8362800" cy="36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ritério baseado na probabilidade de extinção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Espécies críticas – 50% ou mais  de probabilidade de extinção dentro de 5 anos ou 2 geraçõ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Espécies ameaçadas – 20-50% de probabilidade de extinção dentro de 20 anos ou 10 geraçõ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Espécies vulneráveis – 10-20% de probabilidade de extinção dentro de 100 an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Proteção Legal de Espéc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4000" y="1125000"/>
            <a:ext cx="82803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Legislação ambiental nacional é voltada para conservação de ecossistem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Portarias específic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rbel"/>
              </a:rPr>
              <a:t>Portaria IBAMA nº N-011, de 21 de Fevereiro de 1986 __ “Proibir, nas águas sob jurisdição nacional, a perseguição, caça, pesca ou captura de pequenos Cetáceos, Pinípedes e Sirênios.”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rbel"/>
              </a:rPr>
              <a:t>Lei Federal nº 7.643, de 18 de Dezembro de 1987 __ “Fica proibida a pesca, ou qualquer forma de molestamento intencional, de toda espécie de cetáceo nas águas brasileiras.”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rbel"/>
              </a:rPr>
              <a:t>Portaria IBAMA nº 2.306, de 22 de Novembro de 1990 __ “Fica proibido qualquer forma de molestamento intencional a toda espécie de cetáceo nas águas jurisdicionais brasileiras.”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Lista de espécies ameaça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905200" cy="6238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132000" y="1130400"/>
            <a:ext cx="6012000" cy="2114280"/>
          </a:xfrm>
          <a:prstGeom prst="rect">
            <a:avLst/>
          </a:prstGeom>
          <a:ln w="0">
            <a:noFill/>
          </a:ln>
        </p:spPr>
      </p:pic>
      <p:sp>
        <p:nvSpPr>
          <p:cNvPr id="382" name="Retângulo 3"/>
          <p:cNvSpPr/>
          <p:nvPr/>
        </p:nvSpPr>
        <p:spPr>
          <a:xfrm>
            <a:off x="179280" y="5661000"/>
            <a:ext cx="2880000" cy="936720"/>
          </a:xfrm>
          <a:prstGeom prst="rect">
            <a:avLst/>
          </a:prstGeom>
          <a:solidFill>
            <a:srgbClr val="7fd13b">
              <a:alpha val="4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156360" y="333360"/>
          <a:ext cx="2987640" cy="797040"/>
        </p:xfrm>
        <a:graphic>
          <a:graphicData uri="http://schemas.openxmlformats.org/drawingml/2006/table">
            <a:tbl>
              <a:tblPr/>
              <a:tblGrid>
                <a:gridCol w="596880"/>
                <a:gridCol w="598320"/>
                <a:gridCol w="596880"/>
                <a:gridCol w="598680"/>
                <a:gridCol w="596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B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UIC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aio 20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ov 20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cxnSp>
        <p:nvCxnSpPr>
          <p:cNvPr id="384" name="Forma 11"/>
          <p:cNvCxnSpPr>
            <a:stCxn id="382" idx="0"/>
          </p:cNvCxnSpPr>
          <p:nvPr/>
        </p:nvCxnSpPr>
        <p:spPr>
          <a:xfrm flipH="1" flipV="1" rot="5400000">
            <a:off x="638640" y="3167640"/>
            <a:ext cx="3474000" cy="1513440"/>
          </a:xfrm>
          <a:prstGeom prst="curvedConnector2">
            <a:avLst/>
          </a:prstGeom>
          <a:ln w="11880">
            <a:solidFill>
              <a:srgbClr val="ff0000"/>
            </a:solidFill>
            <a:miter/>
          </a:ln>
        </p:spPr>
      </p:cxnSp>
      <p:sp>
        <p:nvSpPr>
          <p:cNvPr id="385" name="CaixaDeTexto 12"/>
          <p:cNvSpPr/>
          <p:nvPr/>
        </p:nvSpPr>
        <p:spPr>
          <a:xfrm>
            <a:off x="3276720" y="3284640"/>
            <a:ext cx="57592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IB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Anexo I – ameaçada de extin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Anexo II – sobrexplor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UIC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BR – baixo ris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VU – vulnerá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ER – em ris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CP – criticamente em peri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EN - extinta na nature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EX – exti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CI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Apêndice I – mais ameaçadas de extinção, comércio proibi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Apêndice II – risco de extinção, comércio control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Apêndice III – comércio controlado, evitar sobrexplor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CaixaDeTexto 13"/>
          <p:cNvSpPr/>
          <p:nvPr/>
        </p:nvSpPr>
        <p:spPr>
          <a:xfrm>
            <a:off x="2862720" y="18900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Elasmobrânqu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Acordos Internaciona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onvenção das Nações Unidas sobre a Diversidade Biológica – 29/12/1993, reduzir a perda de biodiversidade e promover o seu uso sustentável. Amplo, abrange espécies e ecossistem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ITES – 1973, 120 países participantes, controle do comércio internacional de diversas espécies (675 espécies proibidas e 3.700 animais e 21.000 plantas cujo comércio é regulado e monitorado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Acordos Internaciona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4360" y="1784520"/>
            <a:ext cx="820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onvenção sobre as Espécies Migratórias – assinada em 1979, número pequeno de países signatários, foco em aves migratóri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onvenção sobre a Conservação dos Recursos Marinhos Vivos da Antártic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onvenção Internacional para a Regulamentação da Pesca à Baleia – Comissão Internacional da Bale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c000"/>
                </a:solidFill>
                <a:latin typeface="Corbel"/>
              </a:rPr>
              <a:t>Observação: participação nos acordos é voluntári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9:53:56Z</dcterms:created>
  <dc:creator>Cassiano</dc:creator>
  <dc:description/>
  <dc:language>en-US</dc:language>
  <cp:lastModifiedBy>Cassiano</cp:lastModifiedBy>
  <dcterms:modified xsi:type="dcterms:W3CDTF">2010-11-08T15:47:43Z</dcterms:modified>
  <cp:revision>21</cp:revision>
  <dc:subject/>
  <dc:title>Categorias de Espécies e Áreas Protegidas para a Conservação</dc:title>
</cp:coreProperties>
</file>