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3F1-6F67-4995-B356-34703A0A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5EC-7FA0-4935-9EEC-15EC2FD7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BC3-86A4-421F-8F85-D012B8B5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139-2D81-44BA-BC3A-5C312C4A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FD42-C9A1-46D3-9459-7CA3BE77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DA8-1A14-4642-8F77-58DDCE6B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599C-E1E9-49BC-9019-1B11A79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F247-FCD6-46DB-AB53-E493B49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52A-AB82-4F09-AD7F-29E2B4D9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A52-BDAA-4260-9A6B-F188753F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CAE0-7CDC-48C5-A48D-59E1307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20A-39BD-4B12-BC3E-935D4F3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55E-F622-4967-83B9-DC1E71F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8A1-0C7B-421C-BC7D-B0810A8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7AA6-A71C-4738-AD5B-4DCF34F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EED6-839F-465F-8F46-867E6468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F92-5F15-42FD-9077-BBA9A4F1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BC0A-3D04-4D2B-814C-34559ED7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8E98-1BF0-42F5-8149-BAA816E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722F-5627-457E-8448-56DABD7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9FA5-A1DA-465C-9737-E600FF5F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C7E0-986D-46D2-A5AE-F7CB1CB6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369-96F6-47ED-9C6E-DD724459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A5FB-234E-4D04-907E-90878E1F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DD75-D3E5-437C-917A-7D85436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6C9B-4B95-4AAD-96BE-908B106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9C16-B7AB-44A7-BCAC-B9D463E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95CA-9D9B-49E5-A967-EAEFB1E1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D9FA-E2B8-49DB-81CD-91AA8A7B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76BE-627A-4E64-8217-20C24FBD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3B24-8A5B-4C4C-ACFE-355DD7B8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BF94-5E63-454E-A5B7-A3F9C635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0955-A1C1-4849-8CA0-3E1F40B5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719-592F-4676-9F7A-52F37F16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7A2C-C7FA-4BB2-802F-50A2CD1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4E80-E321-4D58-99DF-1B8788D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AA9A-E49F-4233-A608-39292C92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3AAB-B7EB-4DB1-9A06-7F61B0C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7156-DB7F-48FD-878E-EC3B50E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B14C-38B0-4617-8FCC-A8CF7AC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7CFA-476E-4EF0-90B5-6FDAB0EB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CC71-1B16-4B37-9CAB-B401FC06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9EF0-21BD-4137-8A2E-7A79978D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5BEB6-B839-423B-B765-952EC013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A6E-D85F-43D0-B99C-0712EFF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E2407-4D02-48AA-85EA-3AD0D79D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2904-A5B5-4884-8232-F7CDE10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31E3-F05F-4B5F-ACAC-38ACE04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E89F1-F4FA-4546-9C6F-F215EA9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EC77-E6FB-400E-941B-372E1B8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0526-2EFB-4A24-8698-EBD8E9B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540B-5ACD-43DC-A5CE-9947B62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58A5C-AA91-44AE-AD95-0052721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93D9-0D62-4C8C-A695-1E339EF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2964-672C-439C-A052-D2C45CF5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986-20F6-4BFD-9DAE-5D04C86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0F22-17C3-4FA3-A07D-D2A5E5C1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87E0-5EC6-49FC-B2CF-6AB4957A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2DB3E-3717-4E27-B067-A987032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893F-89BC-406D-BEA5-CF5C661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005C-53D3-4921-BB5F-EC526CDD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A8E8-281C-4789-8A1C-B793672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E24D-FCE2-4DD3-B887-A0596CD2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E504-FFF6-41F6-9CEB-BF12233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619B-27F5-4E13-B7EC-7B56A49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139F4-2B22-4966-A9AC-06AB3DF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82A-4E0B-4736-8317-2E0B4C6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D2CB-DB88-4C65-AD25-C459C062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350C-D290-4E68-928E-52D635ED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563B-CB8E-41B4-BCC1-EBFCCC19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2708-2A37-478C-9669-7E3293CA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62A9D-1963-473D-85D8-E12D407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6A02D-2A86-4537-ADEE-DE7190E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6A55-A4C3-4FD9-9C68-9AF679A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0A268-F0B0-471D-9B27-9F42139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5FB7-7297-4FA3-862B-BFCAB28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13B9-956A-4BD7-8207-137F806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9E0-AD2F-4D4A-8F7F-D9B8C5C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8B82C-4FD5-4E69-9ED3-6B023D3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B095-AA23-457E-AB41-8BADB65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AC866-9038-476D-931E-22EC8CEB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6916-F172-4686-9437-F588DC8C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915B-2291-4E05-806B-96D57FA6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194-E6BA-43A5-8355-55FFD89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E588-5591-421A-B6AF-B0ED1D492A2B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tângul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tângul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tângul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tângul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tângul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A9A0-4FD5-4DBC-82AB-731262283D2E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orma livre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rma livre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rma livre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rma livre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orma livre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rma livre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rma livre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rma livre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orma livre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rma livre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rma livre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rma livre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rma livre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orma livre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rma livre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tângul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tângul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tângul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tângul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A13-0ADF-4F16-A179-7405EB47DEDF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977-D365-40BE-9844-4EB035F002BD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tângul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tângul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tângul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tângul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tângul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tângul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tângul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tângul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135-85BA-4946-975F-A6CAF09D5ADA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CEF-E2D8-4EF2-AF00-47CF8CAC2536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tângul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Conector reto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upo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Conector reto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Conector reto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Conector reto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upo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Conector reto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Conector reto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Conector reto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upo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Conector reto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Conector reto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Conector reto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2DE-64FF-4C40-A20E-ADAD446217D8}" type="slidenum">
              <a:rPr b="0" lang="pt-BR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ítulo 1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010360" cy="25178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494496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Prof. Cassiano Monteiro Net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Conservação e Manejo de Ecossistemas Aquático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Laboratório ECOPES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Departamento de Biologia Marinh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Insttuto de Biologia - UF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90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ais de Áreas Protegid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2503080"/>
            <a:ext cx="77724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Definição: espaço geográfico claramente definido, reconhecido, dedicado e gerido, através de meios legais ou outros igualmente eficientes, com o fim de obter a conservação ao longo do tempo da natureza com os serviços associados ao ecossistema e os valores culturais.</a:t>
            </a:r>
            <a:r>
              <a:rPr b="0" lang="pt-BR" sz="3000" spc="-1" strike="noStrike" u="sng" baseline="30000">
                <a:solidFill>
                  <a:srgbClr val="eb8803"/>
                </a:solidFill>
                <a:uFillTx/>
                <a:latin typeface="Corbel"/>
                <a:hlinkClick r:id="rId1" action="ppaction://hlinksldjump"/>
              </a:rPr>
              <a:t>[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ias da UIC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1280" y="155736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“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PROTEÇÃO INTEGRAL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Reservas Naturais e Áreas Virgen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uso restrito a estudos científicos, educação e monitoramento ambient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Reservas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 – recursos preservados para o futuro. Uso controlado dos recursos de acordo com as políticas naciona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Santuários e Reservas Naturais Manejada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semelhante a categoria 1, manejo e extrativismo visam a manutenção dos processos e das populações desejáve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Naturais Bióticas e Reservas Antropológica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manutenção do modo de vida das sociedades tradicionai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ategorias da UIC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128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“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Corbel"/>
              </a:rPr>
              <a:t>USO SUSTENTÁVEL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Parques Nacionais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beleza natural e cênica, proteção a um ou mais ecossistemas, uso científico, educacional e recreativo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 de Monitoramento de Referência Nacional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reservas menores, preservação de características biológicas geológicas ou culturais singula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de Proteção Ambiental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– uso tradicional não destrutivo do M.A. pela população, oportunidades ao turismo e recreação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rbel"/>
              </a:rPr>
              <a:t>Áreas de Manejo e Uso Múltiplo </a:t>
            </a:r>
            <a:r>
              <a:rPr b="0" lang="pt-BR" sz="2400" spc="-1" strike="noStrike">
                <a:solidFill>
                  <a:srgbClr val="ffffff"/>
                </a:solidFill>
                <a:latin typeface="Corbel"/>
              </a:rPr>
              <a:t>- oportunidade de utilização sustentável dos recursos naturais (água, vida selvagem, extração de madeira, turismo, pesca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Porque estabelecer categorias?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ategorizar – sistematizar, organizar e estabelecer priorida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stabelecer o status de conservação das espéc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stabelecer o status de conservação dos ecossistem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Propor medidas para conservaçã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1eeff"/>
                </a:solidFill>
                <a:latin typeface="Consolas"/>
              </a:rPr>
              <a:t>Categorias de Conservação de Espéci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UICN – União Mundial para Conservação (UICN 1984, 1988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Espécie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Extinta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não existem mais no ambiente natur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Em perigo</a:t>
            </a:r>
            <a:r>
              <a:rPr b="1" lang="pt-BR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– grande probabilidade de extinção em um futuro próxim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Vulnerávei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podem se tornar ameaçadas no futuro próximo (redução populacion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Raras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 – número naturalmente raro de indivíduos (distribuição geográfica limitada, baixa densidade populacional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Corbel"/>
              </a:rPr>
              <a:t>Insuficientemente conhecidas</a:t>
            </a:r>
            <a:r>
              <a:rPr b="1" lang="pt-BR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– provavelmente pertencem a uma das categorias acima mas não são suficientemente conhecidas para serem classificada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Corbel"/>
              </a:rPr>
              <a:t>Livro Vermelho das Espécies </a:t>
            </a:r>
            <a:r>
              <a:rPr b="0" lang="pt-BR" sz="2300" spc="-1" strike="noStrike">
                <a:solidFill>
                  <a:srgbClr val="ffffff"/>
                </a:solidFill>
                <a:latin typeface="Corbel"/>
              </a:rPr>
              <a:t>– avaliação de 60.000 plantas e 2.000 espécies de animai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1eeff"/>
                </a:solidFill>
                <a:latin typeface="Consolas"/>
              </a:rPr>
              <a:t>Dificuldades para Categorizar Espéci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tudos para determinar a densidade demográfica e tendência populacional (tempo e dinheiro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Os estudos devem abranger toda a área de ocorrência (dificuldades logística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Categorias podem não ser adequadas para determinados grupos taxonômicos (ex. inseto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não observadas por muitos anos não são listadas como ameaçadas por falta de estudos específic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Critérios subjetivos – lobby de cientistas e organizações podem priorizar determinados grupos em detrimento de outr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Critério de Mace &amp; Lande (1991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2104560"/>
            <a:ext cx="836280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ritério baseado na probabilidade de extinçã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críticas – 50% ou mais  de probabilidade de extinção dentro de 5 anos ou 2 geraçõ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ameaçadas – 20-50% de probabilidade de extinção dentro de 20 anos ou 10 geraçõ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Espécies vulneráveis – 10-20% de probabilidade de extinção dentro de 100 an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Proteção Legal de Espéc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4000" y="1125000"/>
            <a:ext cx="82803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Legislação ambiental nacional é voltada para conservação de ecossistem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Portarias específic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Portaria IBAMA nº N-011, de 21 de Fevereiro de 1986 __ “Proibir, nas águas sob jurisdição nacional, a perseguição, caça, pesca ou captura de pequenos Cetáceos, Pinípedes e Sirênio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Lei Federal nº 7.643, de 18 de Dezembro de 1987 __ “Fica proibida a pesca, ou qualquer forma de molestamento intencional, de toda espécie de cetáceo nas águas brasileira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rbel"/>
              </a:rPr>
              <a:t>Portaria IBAMA nº 2.306, de 22 de Novembro de 1990 __ “Fica proibido qualquer forma de molestamento intencional a toda espécie de cetáceo nas águas jurisdicionais brasileiras.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Lista de espécies ameaça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905200" cy="623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132000" y="1130400"/>
            <a:ext cx="6012000" cy="2114280"/>
          </a:xfrm>
          <a:prstGeom prst="rect">
            <a:avLst/>
          </a:prstGeom>
          <a:ln w="0">
            <a:noFill/>
          </a:ln>
        </p:spPr>
      </p:pic>
      <p:sp>
        <p:nvSpPr>
          <p:cNvPr id="382" name="Retângulo 3"/>
          <p:cNvSpPr/>
          <p:nvPr/>
        </p:nvSpPr>
        <p:spPr>
          <a:xfrm>
            <a:off x="179280" y="5661000"/>
            <a:ext cx="2880000" cy="936720"/>
          </a:xfrm>
          <a:prstGeom prst="rect">
            <a:avLst/>
          </a:prstGeom>
          <a:solidFill>
            <a:srgbClr val="7fd13b">
              <a:alpha val="4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156360" y="333360"/>
          <a:ext cx="2987640" cy="797040"/>
        </p:xfrm>
        <a:graphic>
          <a:graphicData uri="http://schemas.openxmlformats.org/drawingml/2006/table">
            <a:tbl>
              <a:tblPr/>
              <a:tblGrid>
                <a:gridCol w="596880"/>
                <a:gridCol w="598320"/>
                <a:gridCol w="596880"/>
                <a:gridCol w="598680"/>
                <a:gridCol w="596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B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UIC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io 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ov 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cxnSp>
        <p:nvCxnSpPr>
          <p:cNvPr id="384" name="Forma 11"/>
          <p:cNvCxnSpPr>
            <a:stCxn id="382" idx="0"/>
          </p:cNvCxnSpPr>
          <p:nvPr/>
        </p:nvCxnSpPr>
        <p:spPr>
          <a:xfrm flipH="1" flipV="1" rot="5400000">
            <a:off x="638640" y="3167640"/>
            <a:ext cx="3474000" cy="1513440"/>
          </a:xfrm>
          <a:prstGeom prst="curvedConnector2">
            <a:avLst/>
          </a:prstGeom>
          <a:ln w="11880">
            <a:solidFill>
              <a:srgbClr val="ff0000"/>
            </a:solidFill>
            <a:miter/>
          </a:ln>
        </p:spPr>
      </p:cxnSp>
      <p:sp>
        <p:nvSpPr>
          <p:cNvPr id="385" name="CaixaDeTexto 12"/>
          <p:cNvSpPr/>
          <p:nvPr/>
        </p:nvSpPr>
        <p:spPr>
          <a:xfrm>
            <a:off x="3276720" y="3284640"/>
            <a:ext cx="5759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IB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Anexo I – ameaçada de extin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Anexo II – sobrexplo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UIC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BR – baixo ri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VU – vulnerá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R – em ri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CP – criticamente em peri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N - extinta na nature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- EX – exti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C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 – mais ameaçadas de extinção, comércio proib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I – risco de extinção, comércio control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rbel"/>
              </a:rPr>
              <a:t>Apêndice III – comércio controlado, evitar sobrexplor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aixaDeTexto 13"/>
          <p:cNvSpPr/>
          <p:nvPr/>
        </p:nvSpPr>
        <p:spPr>
          <a:xfrm>
            <a:off x="2862720" y="18900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Elasmobrânqu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Acordos Internaciona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das Nações Unidas sobre a Diversidade Biológica – 29/12/1993, reduzir a perda de biodiversidade e promover o seu uso sustentável. Amplo, abrange espécies e ecossistem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ITES – 1973, 120 países participantes, controle do comércio internacional de diversas espécies (675 espécies proibidas e 3.700 animais e 21.000 plantas cujo comércio é regulado e monitorado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1eeff"/>
                </a:solidFill>
                <a:latin typeface="Consolas"/>
              </a:rPr>
              <a:t>Acordos Internaciona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4360" y="1784520"/>
            <a:ext cx="820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sobre as Espécies Migratórias – assinada em 1979, número pequeno de países signatários, foco em aves migratóri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sobre a Conservação dos Recursos Marinhos Vivos da Antártic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Convenção Internacional para a Regulamentação da Pesca à Baleia – Comissão Internacional da Bale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c000"/>
                </a:solidFill>
                <a:latin typeface="Corbel"/>
              </a:rPr>
              <a:t>Observação: participação nos acordos é voluntár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9:53:56Z</dcterms:created>
  <dc:creator>Cassiano</dc:creator>
  <dc:description/>
  <dc:language>en-US</dc:language>
  <cp:lastModifiedBy>Cassiano</cp:lastModifiedBy>
  <dcterms:modified xsi:type="dcterms:W3CDTF">2010-11-08T15:47:43Z</dcterms:modified>
  <cp:revision>21</cp:revision>
  <dc:subject/>
  <dc:title>Categorias de Espécies e Áreas Protegidas para a Conservação</dc:title>
</cp:coreProperties>
</file>