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Enya%20-%20Flora's%20Secret(ts)(1)32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235-8B86-4516-9FA0-166DC61C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768-1264-4433-BE3C-85CEB54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558-710A-4BA4-8720-59A69F8D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CC0-215C-4744-A797-BF3E26C9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7F1-D8F9-47CF-81BD-8B36FD4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E6E-D957-4E07-8571-CB0F83D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F2-3B15-43CC-9A6D-9307CF95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C66-980E-4ECE-A7AC-7508A93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82B-BCB0-4996-8ADD-DDD84C3D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81E-409F-486F-A2F2-99088FB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456-5CF3-4A4B-8792-B9164AB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A68-F32A-40DC-8885-EC1F322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CEC1-508D-4CD4-94FE-9D2F8C382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%20-%20Flora&apos;s%20Secret(ts)(1)3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430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ff3300"/>
                </a:solidFill>
                <a:latin typeface="Times New Roman"/>
              </a:rPr>
              <a:t>Papierfeest in Portugal.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9152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9152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9152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9152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915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16240" y="0"/>
            <a:ext cx="46180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180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915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9152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91520" cy="614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66160" y="5172120"/>
            <a:ext cx="73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9152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915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91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9152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915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47:08Z</dcterms:created>
  <dc:creator>G Scardamaglia</dc:creator>
  <dc:description/>
  <dc:language>en-US</dc:language>
  <cp:lastModifiedBy> </cp:lastModifiedBy>
  <dcterms:modified xsi:type="dcterms:W3CDTF">2009-10-02T02:29:21Z</dcterms:modified>
  <cp:revision>6</cp:revision>
  <dc:subject/>
  <dc:title>Présentation PowerPoint</dc:title>
</cp:coreProperties>
</file>