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Enya%20-%20Flora's%20Secret(ts)(1)32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AE5-0F26-4B5C-B434-896531DD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292-C590-4A50-8336-83896430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CF1-A1D4-48E6-815A-BE08AD25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92B-37DA-4275-B565-9FE4F09F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EBA-797F-4849-9CA3-64DB6281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3F4-8FC5-426E-B71B-06071866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ADC-F44E-4FD8-B778-11C3BF7A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9FA-CE3A-4B28-8AEB-87DCD041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E54-119C-461B-9E64-2DC0C3E7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FF1-3AC1-4BBE-9034-A5FB02D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832-0591-40EA-B3D5-99988E4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E95-1DAC-4CA6-96C7-052B875C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0875-D743-4F27-B9C2-6055D0DE9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ya%20-%20Flora&apos;s%20Secret(ts)(1)32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430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fr-FR" sz="4000" spc="-1" strike="noStrike">
                <a:solidFill>
                  <a:srgbClr val="ff3300"/>
                </a:solidFill>
                <a:latin typeface="Times New Roman"/>
              </a:rPr>
              <a:t>Papierfeest in Portugal.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915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9152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9152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915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19152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915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16240" y="0"/>
            <a:ext cx="46180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180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9152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915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9152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915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915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91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91520" cy="614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66160" y="517212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Ein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9152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9152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915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91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73160"/>
            <a:ext cx="919152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915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47:08Z</dcterms:created>
  <dc:creator>G Scardamaglia</dc:creator>
  <dc:description/>
  <dc:language>en-US</dc:language>
  <cp:lastModifiedBy> </cp:lastModifiedBy>
  <dcterms:modified xsi:type="dcterms:W3CDTF">2009-10-02T02:29:21Z</dcterms:modified>
  <cp:revision>6</cp:revision>
  <dc:subject/>
  <dc:title>Présentation PowerPoint</dc:title>
</cp:coreProperties>
</file>