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314-FA39-432E-A40E-FBBE8150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ACAB-A4B5-462D-B409-792F9E11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878-5287-4345-BD15-9AAF0871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3FA-3528-44A4-AD4E-2A2886F8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7FE-2459-4B1E-9D9B-105FD7E3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293-7506-4D1E-BA28-77ACCC9E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7C6-A2B0-48E5-A4B8-42F50765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0D0C-90BF-44C5-98F4-69A99BDD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39F-9C7A-4426-8C85-CB5A94DF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BFF-2DAD-4AAA-A533-47BC5BF5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580-ADFD-4185-A6A7-3D3B3AAA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F22D-AD76-4870-A046-628D8D2A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69AD-CB0D-470D-9AA4-1D7D948B5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4996" r="0" b="0"/>
          <a:stretch/>
        </p:blipFill>
        <p:spPr>
          <a:xfrm>
            <a:off x="1676520" y="1219320"/>
            <a:ext cx="6629400" cy="4190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60958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 CHAPTER I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6095880"/>
          <a:ext cx="752400" cy="405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095880"/>
                    <a:ext cx="7524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28600" y="60199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066680" y="533160"/>
            <a:ext cx="0" cy="60195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 rot="5400000">
            <a:off x="-1824120" y="2738160"/>
            <a:ext cx="474336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8" name=""/>
          <p:cNvSpPr/>
          <p:nvPr/>
        </p:nvSpPr>
        <p:spPr>
          <a:xfrm>
            <a:off x="1064520" y="1066680"/>
            <a:ext cx="791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ediaan bencana dan rancang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ntuan kebangsa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eranan urusetia Majlis Keselama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ara di dalam penyelaras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si bantuan banjir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27" name=""/>
          <p:cNvSpPr/>
          <p:nvPr/>
        </p:nvSpPr>
        <p:spPr>
          <a:xfrm>
            <a:off x="885960" y="22860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adaan Mer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38080" y="76212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7621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Permohonan bantuan hendaklah dipanjangkan oleh Bilik Gerakan DAERAH kepada NEG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kiranya bekalan tidak diperolehi, Bilik Gerakan NEGERI dipanjangkan kepada NEGA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) Permohonan perkhidmatan pesawat ud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ik Gerakan NEGERI -&gt; NE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at operasi teknikal ud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) Post Mor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286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UNGSI JAWATANKUASA BANTUAN BENCANA A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1266840"/>
            <a:ext cx="75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SI UT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i bantuan kecemasan kep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gsa-mangsa banj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ju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urangkan kesengsaraan mang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228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UNGSI JAWATANKU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66680" y="93996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idmat ini terbahagi kepada 5 jen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gas menyela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yediaan dan pengurusan pusat peminda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yediaan sajian maka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yediaan bekalan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yediaan rawatan perubatan dan kesiha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286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IAPAN 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8080" y="941400"/>
            <a:ext cx="8077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Penyediaan pusat peminda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Penyediaan pangkalan had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Penyediaan tanda pendaratan heliko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Bot-bot penyela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Mengenalpasti dan membuat peraturan awal mendapatkan bekalan makanan dan lain-lain keperl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Pembersihana sistem sal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Penyediaan papan tanda amaran banj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NGISYTIHARAN OPERASI BANJ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90720" y="1114560"/>
            <a:ext cx="75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buat jika terdapat perubahan ke arah yang lebih bur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hebahkan oleh urusetia Majlis Keselamatan Negara dan Agensi persekutuan 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ua agensi dalam keadaan siap s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890640" y="228600"/>
            <a:ext cx="76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LIK GERAKAN BANTUAN BENCANA AL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BANJ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38080" y="137160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si Uta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erima, menimbang dan mengambil tindakan segera ke atas semua permohonan bant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erima, mengawas dan mengemaskini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enai keadaan banj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isebarkan untuk orang ramai melalui media m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00" name=""/>
          <p:cNvSpPr/>
          <p:nvPr/>
        </p:nvSpPr>
        <p:spPr>
          <a:xfrm>
            <a:off x="885600" y="228600"/>
            <a:ext cx="26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adaan Hij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76212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ca berubah dari biasa (disebabkan huj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apan akhir bilik gera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dak mengganggu tugas-tugas 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daka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ersiap-sedi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gawai dan kakita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si-agen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alatan, sistem perhubungan diu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dual tugas pegaw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perluan makan/mi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mudahan pengangku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09" name=""/>
          <p:cNvSpPr/>
          <p:nvPr/>
        </p:nvSpPr>
        <p:spPr>
          <a:xfrm>
            <a:off x="885960" y="22860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adaan A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080" y="76212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jan berterusan, paras air na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daka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ik gerakan digerak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si-agensi lain juga digerak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aklumkan kepada pegawai-pegawai dan kakitangan yang bertu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18" name=""/>
          <p:cNvSpPr/>
          <p:nvPr/>
        </p:nvSpPr>
        <p:spPr>
          <a:xfrm>
            <a:off x="885960" y="22860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adaan Mer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38080" y="76212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haya dilanda banjir, bilik gerakan digerakkan sepenuh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daka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ik gerakan digerakkan sepenuh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si-agensi lain juga digerakkan sepenuh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gawai-pegawai dan kakitangan bertu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ukup kanan untuk membuat keputu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narai (alamat, nombor telef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Mengawasi keadaan banjir(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Menyelaras permohonan bant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3:09:30Z</dcterms:created>
  <dc:creator>KPM</dc:creator>
  <dc:description/>
  <dc:language>en-US</dc:language>
  <cp:lastModifiedBy>KPM</cp:lastModifiedBy>
  <dcterms:modified xsi:type="dcterms:W3CDTF">2009-02-02T05:16:21Z</dcterms:modified>
  <cp:revision>41</cp:revision>
  <dc:subject/>
  <dc:title>Slide 1</dc:title>
</cp:coreProperties>
</file>