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69A-F97D-4BCC-B315-35404640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132-7637-4640-9EE2-29D2F292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393-0FAB-4AC1-B88F-FEE5AF7C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59C-6213-49A3-840D-6764E21A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557-CFB4-4837-8DB6-9739F89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FF8-4430-4F05-9444-C9785204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00B-AF49-4759-8031-5DC2C0FA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2AF-808A-4EC2-8D0B-61C6E0F5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1A0-C2C5-4792-AEF6-663BEAC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FD7-4FDE-4026-961F-0077974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E0A-5AEB-40D3-AAAE-64D2CB2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778-8FCD-4855-B23D-B6D91B78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3DFF-4466-4290-AD8E-F96A868A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4996" r="0" b="0"/>
          <a:stretch/>
        </p:blipFill>
        <p:spPr>
          <a:xfrm>
            <a:off x="1676520" y="1219320"/>
            <a:ext cx="6629400" cy="41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60958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 CHAPTER I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6095880"/>
          <a:ext cx="752400" cy="40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5880"/>
                    <a:ext cx="7524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60199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066680" y="533160"/>
            <a:ext cx="0" cy="6019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5400000">
            <a:off x="-1824120" y="2738160"/>
            <a:ext cx="474336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064520" y="1066680"/>
            <a:ext cx="79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ediaan bencana dan rancang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tuan kebangsa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eranan urusetia Majlis Keselama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ra di dalam penyelara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si bantuan banji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885960" y="2286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Mer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7621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7621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Permohonan bantuan hendaklah dipanjangkan oleh Bilik Gerakan DAERAH kepada NEG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kiranya bekalan tidak diperolehi, Bilik Gerakan NEGERI dipanjangkan kepada NEG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Permohonan perkhidmatan pesawat ud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k Gerakan NEGERI -&gt;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at operasi teknikal ud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Post Mor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GSI JAWATANKUASA BANTUAN BENCANA A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126684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UT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i bantuan kecemasan kep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gsa-mangsa banj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urangkan kesengsaraan mang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GSI JAWATANKU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93996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idmat ini terbahagi kepada 5 jen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gas menyel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dan pengurusan pusat pemin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sajian maka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bekala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ediaan rawatan perubatan dan kesiha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28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IAPAN 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941400"/>
            <a:ext cx="807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Penyediaan pusat peminda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Penyediaan pangkalan had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Penyediaan tanda pendaratan heliko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Bot-bot penyela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Mengenalpasti dan membuat peraturan awal mendapatkan bekalan makanan dan lain-lain keperl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Pembersihana sistem sal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Penyediaan papan tanda amaran banj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NGISYTIHARAN OPERASI BANJ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111456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buat jika terdapat perubahan ke arah yang lebih bur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hebahkan oleh urusetia Majlis Keselamatan Negara dan Agensi persekutuan 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ua agensi dalam keadaan siap s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890640" y="228600"/>
            <a:ext cx="76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LIK GERAKAN BANTUAN BENCANA A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BANJ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13716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si Ut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rima, menimbang dan mengambil tindakan segera ke atas semua permohonan bant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rima, mengawas dan mengemaskin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enai keadaan banj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sebarkan untuk orang ramai melalui media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885600" y="22860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Hij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76212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ca berubah dari biasa (disebabkan huj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apan akhir bilik ger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mengganggu tugas-tugas 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dak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rsiap-sedi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gawai dan kakita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si-ag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latan, sistem perhubungan diu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ual tugas pegaw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perluan makan/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mudahan pengangku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885960" y="2286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A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7621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jan berterusan, paras air n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dak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k gerakan digerak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si-agensi lain juga digerak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klumkan kepada pegawai-pegawai dan kakitangan yang bertu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6324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mic Sans MS"/>
              </a:rPr>
              <a:t>BULAN SABIT MERAH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6342120"/>
          <a:ext cx="533520" cy="2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342120"/>
                    <a:ext cx="533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120" y="228240"/>
            <a:ext cx="0" cy="65530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5400000">
            <a:off x="-1952640" y="2867040"/>
            <a:ext cx="474336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SESI DU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885960" y="2286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adaan Mer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0" t="44996" r="0" b="0"/>
          <a:stretch/>
        </p:blipFill>
        <p:spPr>
          <a:xfrm>
            <a:off x="1676520" y="1219320"/>
            <a:ext cx="601956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76212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ya dilanda banjir, bilik gerakan digerakkan sepenuh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dak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k gerakan digerakkan sepenuh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si-agensi lain juga digerakkan sepenuh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gawai-pegawai dan kakitangan bertu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kup kanan untuk membuat keput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narai (alamat, nombor telef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Mengawasi keadaan banjir(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Menyelaras permohonan bant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09:30Z</dcterms:created>
  <dc:creator>KPM</dc:creator>
  <dc:description/>
  <dc:language>en-US</dc:language>
  <cp:lastModifiedBy>KPM</cp:lastModifiedBy>
  <dcterms:modified xsi:type="dcterms:W3CDTF">2009-02-02T05:16:21Z</dcterms:modified>
  <cp:revision>41</cp:revision>
  <dc:subject/>
  <dc:title>Slide 1</dc:title>
</cp:coreProperties>
</file>