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D84-9910-4D0E-A2EA-568BD5D5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B26-E179-4E13-8C3C-FD662E9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8C9-C038-4ED0-A999-DF28796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545-011A-4142-ADF9-9DF4042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995-BFA9-44C5-91CE-AE4394B3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3D4-C904-4D91-A526-B98676FC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5D4-4F4B-4805-A53A-E0C11C03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026-6B5A-4D0A-B9A2-2C88E78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C09-888F-4618-9132-22158E9A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7D9-95E3-467D-8013-00F2D05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1FB-B8A6-4427-B216-58F38B9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CD4-DBC3-456B-A909-9D2CC6D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33445-4E06-49C7-A17C-E84478A028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D9167-5AAE-4617-B466-9928251D1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6200" y="168120"/>
            <a:ext cx="896148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9596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9596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2:02:42Z</dcterms:created>
  <dc:creator>Alex May</dc:creator>
  <dc:description/>
  <dc:language>en-US</dc:language>
  <cp:lastModifiedBy>Alex May</cp:lastModifiedBy>
  <dcterms:modified xsi:type="dcterms:W3CDTF">2009-12-03T12:11:46Z</dcterms:modified>
  <cp:revision>16</cp:revision>
  <dc:subject/>
  <dc:title>Slide 1</dc:title>
</cp:coreProperties>
</file>