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409-7C40-4904-A204-3FF8F66C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757-556A-4E84-BBAF-289ABDF1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17E-F74F-4D01-9568-75CD01F7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FF0-34C0-4A61-8E85-C94E44B8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272-6841-4439-A021-3073374D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D52-64C7-4897-BEC3-58CCBFCA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700-44A2-4C1A-9263-91C6FDC9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8C90-4E20-4A48-A336-AECFB402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C07-052C-42F8-AF68-FA410E0C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220-2CB5-466D-813D-4AC45EC0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150-8935-4BCD-BED2-527243F2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B4F4-D875-4751-A988-286754C3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688EE-1DA0-4B28-900D-D67BDE8FFB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7F9C9-7E7A-4255-A2CD-F1722B445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06200" y="168120"/>
            <a:ext cx="896148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2160" y="320760"/>
            <a:ext cx="895968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92160" y="320760"/>
            <a:ext cx="87692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92160" y="320760"/>
            <a:ext cx="87692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2160" y="320760"/>
            <a:ext cx="87692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92160" y="320760"/>
            <a:ext cx="87692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2160" y="320760"/>
            <a:ext cx="895968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2:02:42Z</dcterms:created>
  <dc:creator>Alex May</dc:creator>
  <dc:description/>
  <dc:language>en-US</dc:language>
  <cp:lastModifiedBy>Alex May</cp:lastModifiedBy>
  <dcterms:modified xsi:type="dcterms:W3CDTF">2009-12-03T12:11:46Z</dcterms:modified>
  <cp:revision>16</cp:revision>
  <dc:subject/>
  <dc:title>Slide 1</dc:title>
</cp:coreProperties>
</file>