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11%20-%20The%20legend%20of%20Ataman.wav" ContentType="audio/x-wav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844-B685-4C41-B62F-1F04158CD0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ussian souven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EF8-E1E3-46EB-BA6E-A89B4142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931-4D73-4D84-B551-B1F207B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058-E790-4EA0-AA46-1D0D54CA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C82-9581-4D8A-A4DC-2FAC232C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95A-95BA-4966-8393-294B2C77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8F2-D4CE-41DD-A6FC-B7C0FDE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CE7-25DA-4A04-B718-EE0AC1FF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FA8-54C3-4002-8D4D-8B51A180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8B9-848A-4C7E-99C3-CBC6E4A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0D1-3137-4688-8BC4-0367F6B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411-BE18-4F71-9396-6CA6ABF1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E04-FB5D-4AF7-A065-7C62A597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7050-7110-4DEC-9B20-4D334E01E1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1%20-%20The%20legend%20of%20Ataman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Kremlin_Kutafya_and_Troitskaya_Towers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f/Ukhtomsky_1849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d/Kazankremlinnew.jpg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en.wikipedia.org/wiki/Kazan_Kremlin" TargetMode="External"/><Relationship Id="rId4" Type="http://schemas.openxmlformats.org/officeDocument/2006/relationships/hyperlink" Target="http://en.wikipedia.org/wiki/Kazan_Kremlin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Woodplank"/>
              </a:rPr>
              <a:t>KREMLIN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Woodplank"/>
              </a:rPr>
              <a:t>TEMPLOMAIVA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Biztosan ezek a részek tudnának sokat mesélni a cári idõkrõ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Még jó,hogy meg tudták menteni ezeket a mûvészi alkotásokat az utó kor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                  </a:t>
            </a: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Gy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237360"/>
            <a:ext cx="55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Zene: Ural Kozaken-The legend of Ata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  <p:sndAc>
      <p:stSnd>
        <p:snd r:embed="rId1" name="11%20-%20The%20legend%20of%20Atam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2200" y="641664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athedral of Trans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02680" y="6416640"/>
            <a:ext cx="33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athedral of the N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St Basil at night"/>
          <p:cNvPicPr/>
          <p:nvPr/>
        </p:nvPicPr>
        <p:blipFill>
          <a:blip r:embed="rId1"/>
          <a:stretch/>
        </p:blipFill>
        <p:spPr>
          <a:xfrm>
            <a:off x="912960" y="542880"/>
            <a:ext cx="7259400" cy="576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81920" y="634536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St Basil at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68000" y="634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hurch of St. Serg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646000" y="6345360"/>
            <a:ext cx="38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hurch from epoch of Peter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7800" y="6345360"/>
            <a:ext cx="438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Famous Cathedral betwee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4800" y="6345360"/>
            <a:ext cx="52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New Jerusalem Resurrection Monas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560" y="6345360"/>
            <a:ext cx="41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Golden domes of the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74040" y="63817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On the way to the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82200" y="63453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Grotto near 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40600" y="634536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Archangel Michael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24960" y="6416640"/>
            <a:ext cx="24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St. Basil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95680" y="634536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Krasnye Vorota (Red G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15120" y="641664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 Church Mother's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44280" y="634536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Kremlin Towers  Chu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57760" y="634536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The Kazansky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2000" y="638172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Trinity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Kremlin in Izmailovo Near Pond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67080" y="634536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Kremlin in Izmailovo Near 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5960" y="64166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 Sign of Holy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Moscow Kremlin"/>
          <p:cNvPicPr/>
          <p:nvPr/>
        </p:nvPicPr>
        <p:blipFill>
          <a:blip r:embed="rId1"/>
          <a:stretch/>
        </p:blipFill>
        <p:spPr>
          <a:xfrm>
            <a:off x="244440" y="568440"/>
            <a:ext cx="8648640" cy="574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30080" y="63453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Moscow Krem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Red cathedral II"/>
          <p:cNvPicPr/>
          <p:nvPr/>
        </p:nvPicPr>
        <p:blipFill>
          <a:blip r:embed="rId1"/>
          <a:stretch/>
        </p:blipFill>
        <p:spPr>
          <a:xfrm>
            <a:off x="2195640" y="44280"/>
            <a:ext cx="4717800" cy="687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98560" y="62722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Red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46160" y="-270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82400" y="641664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Annunciation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Kremlin church towers"/>
          <p:cNvPicPr/>
          <p:nvPr/>
        </p:nvPicPr>
        <p:blipFill>
          <a:blip r:embed="rId1"/>
          <a:stretch/>
        </p:blipFill>
        <p:spPr>
          <a:xfrm>
            <a:off x="1096920" y="333360"/>
            <a:ext cx="6931080" cy="621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33000" y="648828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Kremlin church t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Interior of Dormition Cathedral"/>
          <p:cNvPicPr/>
          <p:nvPr/>
        </p:nvPicPr>
        <p:blipFill>
          <a:blip r:embed="rId1"/>
          <a:stretch/>
        </p:blipFill>
        <p:spPr>
          <a:xfrm>
            <a:off x="173160" y="447840"/>
            <a:ext cx="8791560" cy="593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82200" y="641664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Interior of Dormition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*Kremlin*"/>
          <p:cNvPicPr/>
          <p:nvPr/>
        </p:nvPicPr>
        <p:blipFill>
          <a:blip r:embed="rId1"/>
          <a:stretch/>
        </p:blipFill>
        <p:spPr>
          <a:xfrm>
            <a:off x="34920" y="476280"/>
            <a:ext cx="9012240" cy="5613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78360" y="627228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Krem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Changing the Kremlin Guard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64360" y="6381720"/>
            <a:ext cx="38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hanging the Kremlin 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Clouds above the Kremlin"/>
          <p:cNvPicPr/>
          <p:nvPr/>
        </p:nvPicPr>
        <p:blipFill>
          <a:blip r:embed="rId1"/>
          <a:stretch/>
        </p:blipFill>
        <p:spPr>
          <a:xfrm>
            <a:off x="227160" y="549360"/>
            <a:ext cx="866592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89360" y="6291360"/>
            <a:ext cx="456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louds above the Krem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Image:Kremlin Kutafya and Troitskaya Tow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571680"/>
            <a:ext cx="742968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41840" y="6416640"/>
            <a:ext cx="52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Kremlin Kutafya and Troitskaya Tow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Image:Ukhtomsky 184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9040" y="-27000"/>
            <a:ext cx="5376960" cy="693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50120" y="648828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Ukhtom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33720" y="634536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Vic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546120"/>
            <a:ext cx="7619760" cy="576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23120" y="6381720"/>
            <a:ext cx="34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The Kremlin Embank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Tsar Cannon in Kremlin"/>
          <p:cNvPicPr/>
          <p:nvPr/>
        </p:nvPicPr>
        <p:blipFill>
          <a:blip r:embed="rId1"/>
          <a:stretch/>
        </p:blipFill>
        <p:spPr>
          <a:xfrm>
            <a:off x="7682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12480" y="634536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Tsar cannon in Krem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Kremlin cathedrals"/>
          <p:cNvPicPr/>
          <p:nvPr/>
        </p:nvPicPr>
        <p:blipFill>
          <a:blip r:embed="rId1"/>
          <a:stretch/>
        </p:blipFill>
        <p:spPr>
          <a:xfrm>
            <a:off x="162000" y="476280"/>
            <a:ext cx="8874000" cy="590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0960" y="638172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Kremlin cathed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The Czar's Bell"/>
          <p:cNvPicPr/>
          <p:nvPr/>
        </p:nvPicPr>
        <p:blipFill>
          <a:blip r:embed="rId1"/>
          <a:stretch/>
        </p:blipFill>
        <p:spPr>
          <a:xfrm>
            <a:off x="579600" y="333360"/>
            <a:ext cx="7953120" cy="6178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70120" y="64882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The Czar'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61680" y="634536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Russian souven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Image:Kazankremlinne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1844640"/>
            <a:ext cx="10731600" cy="3098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23760" y="5337000"/>
            <a:ext cx="1896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Kazan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 Krem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Cathedral in monastery of St. Euphimius"/>
          <p:cNvPicPr/>
          <p:nvPr/>
        </p:nvPicPr>
        <p:blipFill>
          <a:blip r:embed="rId1"/>
          <a:stretch/>
        </p:blipFill>
        <p:spPr>
          <a:xfrm>
            <a:off x="554040" y="404640"/>
            <a:ext cx="8050320" cy="603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59040" y="6435720"/>
            <a:ext cx="53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athedral in monastery of St. Euphim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64520" y="63453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athedral from Fairy 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46160" y="-270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40920" y="64166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Blue and Golden Domes-Assu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19760" cy="576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47440" y="634536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athedral in Byzantium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46160" y="-14400"/>
            <a:ext cx="5218200" cy="6899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59120" y="6416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Cathedral - Moscow-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23:06:17Z</dcterms:created>
  <dc:creator>gyorgy</dc:creator>
  <dc:description/>
  <dc:language>en-US</dc:language>
  <cp:lastModifiedBy>ANI</cp:lastModifiedBy>
  <dcterms:modified xsi:type="dcterms:W3CDTF">2007-11-25T19:55:43Z</dcterms:modified>
  <cp:revision>7</cp:revision>
  <dc:subject/>
  <dc:title>KREMLIN</dc:title>
</cp:coreProperties>
</file>