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F3BE5-514E-4CE5-A7ED-5809E474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8B504-657B-4E8D-9B60-93697C8F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55285-F8E6-428F-829C-8E2E71F5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782C0-FB8C-4D1C-8198-B4347D2BF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5ABC6-3385-4DD3-92B0-53DE8EA4AA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6CED8-2B1B-4E86-B8D8-320155619E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996E1-5B2D-4F21-A593-9464500EFA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533D7-3C54-476A-91A1-A7F42DFD74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98AC0-9680-45D5-A602-CBB3221374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7C5F19-7BA3-4D38-8933-CAF07F615C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0779A-C26C-4287-86C2-64BABBCD79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67892-98BA-4180-877E-AE24F012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D88F4-4F38-4805-919E-CC0E0748DC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842A2-E37F-4351-B5E3-49CA41D8F0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5DCAB-FD16-47E2-AEB9-4F503484A1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D8F2E-9E3A-43C5-9C13-F0F2EE6E58B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45970A-823C-4F24-989F-3A8A7B78A0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02B00-9C87-4CCA-A6B8-D629590E1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27780-F76E-4A5A-9ED2-9519E027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40C1-DD20-4AC4-8268-F34036FB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E220-B9FC-470B-B40B-B23CD03BA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8CB1-5749-4CCC-BF1C-5330315E4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1CD0-E6BF-4E81-A52F-80CDFEA8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75B0-A5A9-4F0A-BF62-88FFD81AB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ADE2-CC25-436B-8B9F-B506CA908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BF44-BBA2-4EE8-B9DF-CBAA605E32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7772400" cy="2895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ku </a:t>
            </a:r>
            <a:br>
              <a:rPr sz="4400"/>
            </a:br>
            <a:r>
              <a:rPr b="1" lang="en-US" sz="4400" spc="-1" strike="noStrike">
                <a:solidFill>
                  <a:srgbClr val="ffffff"/>
                </a:solidFill>
                <a:latin typeface="Tahoma"/>
              </a:rPr>
              <a:t>Tidak Lebih Dulu </a:t>
            </a:r>
            <a:br>
              <a:rPr sz="4400"/>
            </a:br>
            <a:r>
              <a:rPr b="1" lang="en-US" sz="4400" spc="-1" strike="noStrike">
                <a:solidFill>
                  <a:srgbClr val="ffffff"/>
                </a:solidFill>
                <a:latin typeface="Tahoma"/>
              </a:rPr>
              <a:t>ke Surg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a dan Renungkan</a:t>
            </a:r>
            <a:endParaRPr b="0" lang="en-US" sz="3200" spc="-1" strike="noStrike">
              <a:solidFill>
                <a:srgbClr val="ffffff"/>
              </a:solidFill>
              <a:latin typeface="Tahoma"/>
            </a:endParaRPr>
          </a:p>
        </p:txBody>
      </p:sp>
      <p:sp>
        <p:nvSpPr>
          <p:cNvPr id="8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52280"/>
            <a:ext cx="8229600" cy="69343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ya Allah murid-murid pengajian yang aku bina, mereka mendahuluiku ke surga. Setelah itu, berbondong-bondong jamaah masjid-masjid tempat biasa aku berceramah. "Mereka belajar kepadamu, lalu mereka amalkan. Sedangkan kau, terlalu banyak berbicara dan sedikit mendengarkan. Padahal, lebih banyak yang bisa dipelajari dengan mendengar dari pada berbicara," jelasnya lagi. </a:t>
            </a:r>
            <a:endParaRPr b="0" lang="en-US" sz="2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semakin penasaran dan terus menunggu giliranku dipanggil. Seiring dengan itu antrian manusia-manusia dengan wajah ceria, makin panjang. Tapi sejauh ini, belum juga namaku terpanggil. Aku mulai kesal, aku ingin segera bertemu Allah dan berkata, "Ya Allah, didunia aku banyak melakukan ibadah, aku bershodaqoh, banyak membantu orang lain, banyak berdakwah, izinkan aku ke surgaMu."</a:t>
            </a:r>
            <a:endParaRPr b="0" lang="en-US" sz="2800" spc="-1" strike="noStrike">
              <a:solidFill>
                <a:srgbClr val="ffffff"/>
              </a:solidFill>
              <a:latin typeface="Tahoma"/>
            </a:endParaRPr>
          </a:p>
        </p:txBody>
      </p:sp>
      <p:sp>
        <p:nvSpPr>
          <p:cNvPr id="119"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a:hlinkClick r:id="" action="ppaction://hlinkshowjump?jump=firstslide"/>
          </p:cNvPr>
          <p:cNvSpPr/>
          <p:nvPr/>
        </p:nvSpPr>
        <p:spPr>
          <a:xfrm>
            <a:off x="8077320" y="563868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7"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83" fill="hold">
                            <p:stCondLst>
                              <p:cond delay="5000"/>
                            </p:stCondLst>
                            <p:childTnLst>
                              <p:par>
                                <p:cTn id="84" nodeType="afterEffect" fill="hold" presetClass="entr" presetID="7" presetSubtype="4">
                                  <p:stCondLst>
                                    <p:cond delay="0"/>
                                  </p:stCondLst>
                                  <p:childTnLst>
                                    <p:set>
                                      <p:cBhvr>
                                        <p:cTn id="85" dur="1" fill="hold">
                                          <p:stCondLst>
                                            <p:cond delay="0"/>
                                          </p:stCondLst>
                                        </p:cTn>
                                        <p:tgtEl>
                                          <p:spTgt spid="118">
                                            <p:txEl>
                                              <p:pRg st="2" end="2"/>
                                            </p:txEl>
                                          </p:spTgt>
                                        </p:tgtEl>
                                        <p:attrNameLst>
                                          <p:attrName>style.visibility</p:attrName>
                                        </p:attrNameLst>
                                      </p:cBhvr>
                                      <p:to>
                                        <p:strVal val="visible"/>
                                      </p:to>
                                    </p:set>
                                    <p:anim calcmode="lin" valueType="num">
                                      <p:cBhvr additive="base">
                                        <p:cTn id="86" dur="5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87" dur="50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ng dengan wajah bersinar disampingku itu hendak berbicara lagi, aku ingin menolaknya. Tetapi, tanganku tak kuasa menahannya untuk berbicara. "Ibadahmu bukan untuk Allah, tapi semata untuk kepentinganmu mendapatkan surga Allah, shodaqohmu sebatas untuk memperjelas status sosial, dibalik bantuanmu tersimpan keinginan mendapatkan penghargaan, dan dakwah yang kau lakukan hanya berbekas untuk orang lain, tidak untukmu," bergetar tubuhku mendengarnya.</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3"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7" presetSubtype="4">
                                  <p:stCondLst>
                                    <p:cond delay="0"/>
                                  </p:stCondLst>
                                  <p:childTnLst>
                                    <p:set>
                                      <p:cBhvr>
                                        <p:cTn id="93" dur="1" fill="hold">
                                          <p:stCondLst>
                                            <p:cond delay="0"/>
                                          </p:stCondLst>
                                        </p:cTn>
                                        <p:tgtEl>
                                          <p:spTgt spid="122">
                                            <p:txEl>
                                              <p:pRg st="0" end="0"/>
                                            </p:txEl>
                                          </p:spTgt>
                                        </p:tgtEl>
                                        <p:attrNameLst>
                                          <p:attrName>style.visibility</p:attrName>
                                        </p:attrNameLst>
                                      </p:cBhvr>
                                      <p:to>
                                        <p:strVal val="visible"/>
                                      </p:to>
                                    </p:set>
                                    <p:anim calcmode="lin" valueType="num">
                                      <p:cBhvr additive="base">
                                        <p:cTn id="94"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ak-anak yatim, Parmin, mbok Darmi, pengemis tua, murid-murid pengajian, jamaah masjid dan banyak lagi orang-orang yang sering kuanggap tidak lebih baik dariku, mereka lebih dulu ke surga Allah. Padahal, aku sering beranggapan, surga adalah balasan yang pantas untukku atas dakwah yang kulakukan, infaq yang kuberikan, ilmu yang kuajarkan dan perbuatan baik lainnya. Ternyata, aku tidak lebih tunduk dari pada mereka, tidak lebih ikhlas dalam beramal dari pada mereka, tidak lebih bersih hati dari pada mereka, sehingga aku tidak lebih dulu ke surga dari merek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4">
                                  <p:stCondLst>
                                    <p:cond delay="0"/>
                                  </p:stCondLst>
                                  <p:childTnLst>
                                    <p:set>
                                      <p:cBhvr>
                                        <p:cTn id="101" dur="1" fill="hold">
                                          <p:stCondLst>
                                            <p:cond delay="0"/>
                                          </p:stCondLst>
                                        </p:cTn>
                                        <p:tgtEl>
                                          <p:spTgt spid="126">
                                            <p:txEl>
                                              <p:pRg st="0" end="0"/>
                                            </p:txEl>
                                          </p:spTgt>
                                        </p:tgtEl>
                                        <p:attrNameLst>
                                          <p:attrName>style.visibility</p:attrName>
                                        </p:attrNameLst>
                                      </p:cBhvr>
                                      <p:to>
                                        <p:strVal val="visible"/>
                                      </p:to>
                                    </p:set>
                                    <p:anim calcmode="lin" valueType="num">
                                      <p:cBhvr additive="base">
                                        <p:cTn id="102"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07932" dir="27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rmasuk Manakan Anda ?</a:t>
            </a:r>
            <a:endParaRPr b="0" lang="en-US" sz="4400" spc="-1" strike="noStrike">
              <a:solidFill>
                <a:srgbClr val="ffffff"/>
              </a:solidFill>
              <a:latin typeface="Tahoma"/>
            </a:endParaRPr>
          </a:p>
        </p:txBody>
      </p:sp>
      <p:sp>
        <p:nvSpPr>
          <p:cNvPr id="131" name="PlaceHolder 2"/>
          <p:cNvSpPr>
            <a:spLocks noGrp="1"/>
          </p:cNvSpPr>
          <p:nvPr>
            <p:ph/>
          </p:nvPr>
        </p:nvSpPr>
        <p:spPr>
          <a:xfrm>
            <a:off x="457200" y="1904760"/>
            <a:ext cx="8153280" cy="2438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m dinding berdentang tiga kali. Aku tersentak bangun dan, astaghfirullah  ternyata Allah telah menasihatiku lewat mimpi malam ini. (ba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2" name="" descr=""/>
          <p:cNvPicPr/>
          <p:nvPr/>
        </p:nvPicPr>
        <p:blipFill>
          <a:blip r:embed="rId2"/>
          <a:stretch/>
        </p:blipFill>
        <p:spPr>
          <a:xfrm>
            <a:off x="1600200" y="4572000"/>
            <a:ext cx="2103480" cy="1981080"/>
          </a:xfrm>
          <a:prstGeom prst="rect">
            <a:avLst/>
          </a:prstGeom>
          <a:ln w="0">
            <a:noFill/>
          </a:ln>
        </p:spPr>
      </p:pic>
      <p:sp>
        <p:nvSpPr>
          <p:cNvPr id="133" name=""/>
          <p:cNvSpPr txBox="1"/>
          <p:nvPr/>
        </p:nvSpPr>
        <p:spPr>
          <a:xfrm>
            <a:off x="5181480" y="5943600"/>
            <a:ext cx="7430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xi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3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581280" y="3581280"/>
            <a:ext cx="2438640" cy="990720"/>
          </a:xfrm>
          <a:prstGeom prst="cloudCallout">
            <a:avLst>
              <a:gd name="adj1" fmla="val -58527"/>
              <a:gd name="adj2" fmla="val 7708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zz … Zzz … Zzzz</a:t>
            </a:r>
            <a:endParaRPr b="0" lang="en-US" sz="1800" spc="-1" strike="noStrike">
              <a:solidFill>
                <a:srgbClr val="ffffff"/>
              </a:solidFill>
              <a:latin typeface="Arial"/>
            </a:endParaRPr>
          </a:p>
        </p:txBody>
      </p:sp>
    </p:spTree>
  </p:cSld>
  <p:transition>
    <p:randomBar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0">
                                  <p:stCondLst>
                                    <p:cond delay="0"/>
                                  </p:stCondLst>
                                  <p:iterate type="lt">
                                    <p:tmAbs val="100"/>
                                  </p:iterate>
                                  <p:childTnLst>
                                    <p:set>
                                      <p:cBhvr>
                                        <p:cTn id="109" dur="1" fill="hold">
                                          <p:stCondLst>
                                            <p:cond delay="0"/>
                                          </p:stCondLst>
                                        </p:cTn>
                                        <p:tgtEl>
                                          <p:spTgt spid="130"/>
                                        </p:tgtEl>
                                        <p:attrNameLst>
                                          <p:attrName>style.visibility</p:attrName>
                                        </p:attrNameLst>
                                      </p:cBhvr>
                                      <p:to>
                                        <p:strVal val="visible"/>
                                      </p:to>
                                    </p:set>
                                    <p:animEffect filter="fade" transition="in">
                                      <p:cBhvr additive="repl">
                                        <p:cTn id="110" dur="1000"/>
                                        <p:tgtEl>
                                          <p:spTgt spid="130"/>
                                        </p:tgtEl>
                                      </p:cBhvr>
                                    </p:animEffect>
                                    <p:anim calcmode="lin" valueType="num">
                                      <p:cBhvr additive="repl">
                                        <p:cTn id="111" dur="1000" fill="hold"/>
                                        <p:tgtEl>
                                          <p:spTgt spid="130"/>
                                        </p:tgtEl>
                                        <p:attrNameLst>
                                          <p:attrName>ppt_x</p:attrName>
                                        </p:attrNameLst>
                                      </p:cBhvr>
                                      <p:tavLst>
                                        <p:tav tm="0">
                                          <p:val>
                                            <p:strVal val="#ppt_x-.1"/>
                                          </p:val>
                                        </p:tav>
                                        <p:tav tm="100000">
                                          <p:val>
                                            <p:strVal val="#ppt_x"/>
                                          </p:val>
                                        </p:tav>
                                      </p:tavLst>
                                    </p:anim>
                                    <p:anim calcmode="lin" valueType="num">
                                      <p:cBhvr additive="repl">
                                        <p:cTn id="112" dur="1000" fill="hold"/>
                                        <p:tgtEl>
                                          <p:spTgt spid="130"/>
                                        </p:tgtEl>
                                        <p:attrNameLst>
                                          <p:attrName>ppt_y</p:attrName>
                                        </p:attrNameLst>
                                      </p:cBhvr>
                                      <p:tavLst>
                                        <p:tav tm="0">
                                          <p:val>
                                            <p:strVal val="#ppt_y"/>
                                          </p:val>
                                        </p:tav>
                                        <p:tav tm="100000">
                                          <p:val>
                                            <p:strVal val="#ppt_y"/>
                                          </p:val>
                                        </p:tav>
                                      </p:tavLst>
                                    </p:anim>
                                  </p:childTnLst>
                                </p:cTn>
                              </p:par>
                            </p:childTnLst>
                          </p:cTn>
                        </p:par>
                        <p:par>
                          <p:cTn id="113" fill="hold">
                            <p:stCondLst>
                              <p:cond delay="2900"/>
                            </p:stCondLst>
                            <p:childTnLst>
                              <p:par>
                                <p:cTn id="114" nodeType="afterEffect" fill="hold" presetClass="entr" presetID="56">
                                  <p:stCondLst>
                                    <p:cond delay="0"/>
                                  </p:stCondLst>
                                  <p:iterate type="lt">
                                    <p:tmAbs val="100"/>
                                  </p:iterate>
                                  <p:childTnLst>
                                    <p:set>
                                      <p:cBhvr>
                                        <p:cTn id="115" dur="1" fill="hold">
                                          <p:stCondLst>
                                            <p:cond delay="0"/>
                                          </p:stCondLst>
                                        </p:cTn>
                                        <p:tgtEl>
                                          <p:spTgt spid="131">
                                            <p:txEl>
                                              <p:pRg st="0" end="0"/>
                                            </p:txEl>
                                          </p:spTgt>
                                        </p:tgtEl>
                                        <p:attrNameLst>
                                          <p:attrName>style.visibility</p:attrName>
                                        </p:attrNameLst>
                                      </p:cBhvr>
                                      <p:to>
                                        <p:strVal val="visible"/>
                                      </p:to>
                                    </p:set>
                                    <p:anim calcmode="lin" valueType="num" by="(-#ppt_w*2)">
                                      <p:cBhvr additive="repl">
                                        <p:cTn id="116" dur="500" autoRev="1" fill="hold">
                                          <p:stCondLst>
                                            <p:cond delay="0"/>
                                          </p:stCondLst>
                                        </p:cTn>
                                        <p:tgtEl>
                                          <p:spTgt spid="131">
                                            <p:txEl>
                                              <p:pRg st="0" end="0"/>
                                            </p:txEl>
                                          </p:spTgt>
                                        </p:tgtEl>
                                        <p:attrNameLst>
                                          <p:attrName>ppt_w</p:attrName>
                                        </p:attrNameLst>
                                      </p:cBhvr>
                                    </p:anim>
                                    <p:anim calcmode="lin" valueType="num" by="(#ppt_w*0.50)">
                                      <p:cBhvr additive="repl">
                                        <p:cTn id="117" dur="500" autoRev="1" fill="hold">
                                          <p:stCondLst>
                                            <p:cond delay="0"/>
                                          </p:stCondLst>
                                        </p:cTn>
                                        <p:tgtEl>
                                          <p:spTgt spid="131">
                                            <p:txEl>
                                              <p:pRg st="0" end="0"/>
                                            </p:txEl>
                                          </p:spTgt>
                                        </p:tgtEl>
                                        <p:attrNameLst>
                                          <p:attrName>ppt_x</p:attrName>
                                        </p:attrNameLst>
                                      </p:cBhvr>
                                    </p:anim>
                                    <p:anim calcmode="lin" valueType="num" from="(-#ppt_h/2)" to="(#ppt_y)">
                                      <p:cBhvr additive="repl">
                                        <p:cTn id="118" dur="1000" fill="hold">
                                          <p:stCondLst>
                                            <p:cond delay="0"/>
                                          </p:stCondLst>
                                        </p:cTn>
                                        <p:tgtEl>
                                          <p:spTgt spid="131">
                                            <p:txEl>
                                              <p:pRg st="0" end="0"/>
                                            </p:txEl>
                                          </p:spTgt>
                                        </p:tgtEl>
                                        <p:attrNameLst>
                                          <p:attrName>ppt_y</p:attrName>
                                        </p:attrNameLst>
                                      </p:cBhvr>
                                    </p:anim>
                                    <p:animRot by="21600000">
                                      <p:cBhvr>
                                        <p:cTn id="119" dur="1000" fill="hold">
                                          <p:stCondLst>
                                            <p:cond delay="0"/>
                                          </p:stCondLst>
                                        </p:cTn>
                                        <p:tgtEl>
                                          <p:spTgt spid="131">
                                            <p:txEl>
                                              <p:pRg st="0" end="0"/>
                                            </p:txEl>
                                          </p:spTgt>
                                        </p:tgtEl>
                                        <p:attrNameLst>
                                          <p:attrName>r</p:attrName>
                                        </p:attrNameLst>
                                      </p:cBhvr>
                                    </p:animRot>
                                  </p:childTnLst>
                                </p:cTn>
                              </p:par>
                            </p:childTnLst>
                          </p:cTn>
                        </p:par>
                        <p:par>
                          <p:cTn id="120" fill="hold">
                            <p:stCondLst>
                              <p:cond delay="15700"/>
                            </p:stCondLst>
                            <p:childTnLst>
                              <p:par>
                                <p:cTn id="121" nodeType="afterEffect" fill="hold" presetClass="entr" presetID="9">
                                  <p:stCondLst>
                                    <p:cond delay="0"/>
                                  </p:stCondLst>
                                  <p:childTnLst>
                                    <p:set>
                                      <p:cBhvr>
                                        <p:cTn id="122" dur="1" fill="hold">
                                          <p:stCondLst>
                                            <p:cond delay="0"/>
                                          </p:stCondLst>
                                        </p:cTn>
                                        <p:tgtEl>
                                          <p:spTgt spid="132"/>
                                        </p:tgtEl>
                                        <p:attrNameLst>
                                          <p:attrName>style.visibility</p:attrName>
                                        </p:attrNameLst>
                                      </p:cBhvr>
                                      <p:to>
                                        <p:strVal val="visible"/>
                                      </p:to>
                                    </p:set>
                                    <p:animEffect filter="dissolve" transition="in">
                                      <p:cBhvr additive="repl">
                                        <p:cTn id="123" dur="500"/>
                                        <p:tgtEl>
                                          <p:spTgt spid="132"/>
                                        </p:tgtEl>
                                      </p:cBhvr>
                                    </p:animEffect>
                                  </p:childTnLst>
                                </p:cTn>
                              </p:par>
                            </p:childTnLst>
                          </p:cTn>
                        </p:par>
                        <p:par>
                          <p:cTn id="124" fill="hold">
                            <p:stCondLst>
                              <p:cond delay="16200"/>
                            </p:stCondLst>
                            <p:childTnLst>
                              <p:par>
                                <p:cTn id="125" nodeType="afterEffect" fill="hold" presetClass="entr" presetID="40">
                                  <p:stCondLst>
                                    <p:cond delay="0"/>
                                  </p:stCondLst>
                                  <p:iterate type="lt">
                                    <p:tmAbs val="100"/>
                                  </p:iterate>
                                  <p:childTnLst>
                                    <p:set>
                                      <p:cBhvr>
                                        <p:cTn id="126" dur="1" fill="hold">
                                          <p:stCondLst>
                                            <p:cond delay="0"/>
                                          </p:stCondLst>
                                        </p:cTn>
                                        <p:tgtEl>
                                          <p:spTgt spid="136"/>
                                        </p:tgtEl>
                                        <p:attrNameLst>
                                          <p:attrName>style.visibility</p:attrName>
                                        </p:attrNameLst>
                                      </p:cBhvr>
                                      <p:to>
                                        <p:strVal val="visible"/>
                                      </p:to>
                                    </p:set>
                                    <p:animEffect filter="fade" transition="in">
                                      <p:cBhvr additive="repl">
                                        <p:cTn id="127" dur="1000"/>
                                        <p:tgtEl>
                                          <p:spTgt spid="136"/>
                                        </p:tgtEl>
                                      </p:cBhvr>
                                    </p:animEffect>
                                    <p:anim calcmode="lin" valueType="num">
                                      <p:cBhvr additive="repl">
                                        <p:cTn id="128" dur="1000" fill="hold"/>
                                        <p:tgtEl>
                                          <p:spTgt spid="136"/>
                                        </p:tgtEl>
                                        <p:attrNameLst>
                                          <p:attrName>ppt_x</p:attrName>
                                        </p:attrNameLst>
                                      </p:cBhvr>
                                      <p:tavLst>
                                        <p:tav tm="0">
                                          <p:val>
                                            <p:strVal val="#ppt_x-.1"/>
                                          </p:val>
                                        </p:tav>
                                        <p:tav tm="100000">
                                          <p:val>
                                            <p:strVal val="#ppt_x"/>
                                          </p:val>
                                        </p:tav>
                                      </p:tavLst>
                                    </p:anim>
                                    <p:anim calcmode="lin" valueType="num">
                                      <p:cBhvr additive="repl">
                                        <p:cTn id="129" dur="1000" fill="hold"/>
                                        <p:tgtEl>
                                          <p:spTgt spid="136"/>
                                        </p:tgtEl>
                                        <p:attrNameLst>
                                          <p:attrName>ppt_y</p:attrName>
                                        </p:attrNameLst>
                                      </p:cBhvr>
                                      <p:tavLst>
                                        <p:tav tm="0">
                                          <p:val>
                                            <p:strVal val="#ppt_y"/>
                                          </p:val>
                                        </p:tav>
                                        <p:tav tm="100000">
                                          <p:val>
                                            <p:strVal val="#ppt_y"/>
                                          </p:val>
                                        </p:tav>
                                      </p:tavLst>
                                    </p:anim>
                                  </p:childTnLst>
                                </p:cTn>
                              </p:par>
                            </p:childTnLst>
                          </p:cTn>
                        </p:par>
                        <p:par>
                          <p:cTn id="130" fill="hold">
                            <p:stCondLst>
                              <p:cond delay="18300"/>
                            </p:stCondLst>
                            <p:childTnLst>
                              <p:par>
                                <p:cTn id="131" nodeType="afterEffect" fill="hold" presetClass="entr" presetID="19" presetSubtype="10">
                                  <p:stCondLst>
                                    <p:cond delay="0"/>
                                  </p:stCondLst>
                                  <p:childTnLst>
                                    <p:set>
                                      <p:cBhvr>
                                        <p:cTn id="132" dur="1" fill="hold">
                                          <p:stCondLst>
                                            <p:cond delay="0"/>
                                          </p:stCondLst>
                                        </p:cTn>
                                        <p:tgtEl>
                                          <p:spTgt spid="133"/>
                                        </p:tgtEl>
                                        <p:attrNameLst>
                                          <p:attrName>style.visibility</p:attrName>
                                        </p:attrNameLst>
                                      </p:cBhvr>
                                      <p:to>
                                        <p:strVal val="visible"/>
                                      </p:to>
                                    </p:set>
                                    <p:anim calcmode="lin" valueType="num">
                                      <p:cBhvr additive="repl">
                                        <p:cTn id="133"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85440"/>
            <a:ext cx="822960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tidak tahu dimana berada. Meski sekian banyak manusia berada disekelilingku, namun aku tetap merasa sendiri dan ketakutan. Aku masih bertanya dan terus bertanya, tempat apa ini, dan buat apa semua manusia dikumpulkan. Mungkinkah, ah aku tidak mau mengira-ngira.</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sa takutku makin menjadi-jadi, tatkala seseorang yang tidak pernah kukenal sebelumnya mendekati dan menjawab pertanyaan hatiku. "Inilah yang disebut Padang Mahsyar," suaranya begitu menggetarkan jiwaku. "Bagaimana ia bisa tahu pertanyaanku," batinku. Aku menggigil, tubuhku terasa lemas, mataku tegang mencari perlindungan dari seseorang yang kukenal.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8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 calcmode="lin" valueType="num">
                                      <p:cBhvr additive="base">
                                        <p:cTn id="12" dur="5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saksikan langit menghitam, sesaat kemudian bersinar kemilauan. Bersamaan dengan itu, terdengar suara menggema. Aku baru sadar, inilah hari penentuan, hari dimana semua manusia akan menerima keputusan akan balasan dari amalnya selama hidup didunia. Hari ini pula akan ditentukan nasib manusia selanjutnya, surgakah yang akan dinikmati atau adzab neraka yang siap menanti.</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91"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7" presetSubtype="4">
                                  <p:stCondLst>
                                    <p:cond delay="0"/>
                                  </p:stCondLst>
                                  <p:childTnLst>
                                    <p:set>
                                      <p:cBhvr>
                                        <p:cTn id="19" dur="1" fill="hold">
                                          <p:stCondLst>
                                            <p:cond delay="0"/>
                                          </p:stCondLst>
                                        </p:cTn>
                                        <p:tgtEl>
                                          <p:spTgt spid="90">
                                            <p:txEl>
                                              <p:pRg st="0" end="0"/>
                                            </p:txEl>
                                          </p:spTgt>
                                        </p:tgtEl>
                                        <p:attrNameLst>
                                          <p:attrName>style.visibility</p:attrName>
                                        </p:attrNameLst>
                                      </p:cBhvr>
                                      <p:to>
                                        <p:strVal val="visible"/>
                                      </p:to>
                                    </p:set>
                                    <p:anim calcmode="lin" valueType="num">
                                      <p:cBhvr additive="base">
                                        <p:cTn id="20" dur="5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1" dur="50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semakin takut. Namun ada debar dalam dadaku mengingat amal-amal baikku didunia. Mungkinkah aku tergolong orang-orang yang mendapat kasih-Nya atau jangan-jangan .........</a:t>
            </a:r>
            <a:endParaRPr b="0" lang="en-US" sz="2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u dan semua manusia lainnya masih menunggu keputusan dari Yang menguasai hari pembalasan. Tak lama kemudian, terdengar lagi suara menggema tadi yang mengatakan, bahwa sesaat lagi akan dibacakan daftar manusia-manusia yang akan menemani Rasulullah SAW di surga yang indah. Lagi-lagi dadaku berdebar, ada keyakinan bahwa namaku termasuk dalam daftar itu, mengingat banyaknya infaq yang aku sedekahkan. Terlebih lagi, sewaktu didunia aku dikenal sebagai juru dakwah. "Kalaulah banyak orang yang kudakwahi masuk surga, apalagi aku," pikirku mantap.</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9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7" presetSubtype="4">
                                  <p:stCondLst>
                                    <p:cond delay="0"/>
                                  </p:stCondLst>
                                  <p:childTnLst>
                                    <p:set>
                                      <p:cBhvr>
                                        <p:cTn id="27" dur="1" fill="hold">
                                          <p:stCondLst>
                                            <p:cond delay="0"/>
                                          </p:stCondLst>
                                        </p:cTn>
                                        <p:tgtEl>
                                          <p:spTgt spid="94">
                                            <p:txEl>
                                              <p:pRg st="0" end="0"/>
                                            </p:txEl>
                                          </p:spTgt>
                                        </p:tgtEl>
                                        <p:attrNameLst>
                                          <p:attrName>style.visibility</p:attrName>
                                        </p:attrNameLst>
                                      </p:cBhvr>
                                      <p:to>
                                        <p:strVal val="visible"/>
                                      </p:to>
                                    </p:set>
                                    <p:anim calcmode="lin" valueType="num">
                                      <p:cBhvr additive="base">
                                        <p:cTn id="28" dur="5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9" dur="5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0"/>
                            </p:stCondLst>
                            <p:childTnLst>
                              <p:par>
                                <p:cTn id="31" nodeType="afterEffect" fill="hold" presetClass="entr" presetID="7" presetSubtype="4">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anim calcmode="lin" valueType="num">
                                      <p:cBhvr additive="base">
                                        <p:cTn id="33" dur="5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85440"/>
            <a:ext cx="8229600" cy="62485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hirnya, nama-nama itupun mulai disebutkan. Aku masih beranggapan bahwa namaku ada dalam deretan penghuni surga itu, mengingat ibadah-ibadah dan perbuatan-perbuatan baikku. Dalam daftar itu, nama Rasulullah Muhammad SAW sudah pasti tercantum pada urutan teratas, sesuai janji Allah melalui Jibril, bahwa tidak satupun jiwa yang masuk kedalam surga sebelum Muhammad masuk. Setelah itu tersebutlah para </a:t>
            </a:r>
            <a:r>
              <a:rPr b="0" i="1" lang="en-US" sz="2800" spc="-1" strike="noStrike">
                <a:solidFill>
                  <a:srgbClr val="ffffff"/>
                </a:solidFill>
                <a:latin typeface="Tahoma"/>
              </a:rPr>
              <a:t>Assabiquunal Awwaluun</a:t>
            </a:r>
            <a:r>
              <a:rPr b="0" lang="en-US" sz="2800" spc="-1" strike="noStrike">
                <a:solidFill>
                  <a:srgbClr val="ffffff"/>
                </a:solidFill>
                <a:latin typeface="Tahoma"/>
              </a:rPr>
              <a:t>. Kulihat Fatimah Az Zahra dengan senyum manisnya melangkah bahagia sebagai wanita pertama yang ke surga, diikuti para istri-istri dan keluarga rasul lainnya.</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99"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4">
                                  <p:stCondLst>
                                    <p:cond delay="0"/>
                                  </p:stCondLst>
                                  <p:childTnLst>
                                    <p:set>
                                      <p:cBhvr>
                                        <p:cTn id="40" dur="1" fill="hold">
                                          <p:stCondLst>
                                            <p:cond delay="0"/>
                                          </p:stCondLst>
                                        </p:cTn>
                                        <p:tgtEl>
                                          <p:spTgt spid="98">
                                            <p:txEl>
                                              <p:pRg st="0" end="0"/>
                                            </p:txEl>
                                          </p:spTgt>
                                        </p:tgtEl>
                                        <p:attrNameLst>
                                          <p:attrName>style.visibility</p:attrName>
                                        </p:attrNameLst>
                                      </p:cBhvr>
                                      <p:to>
                                        <p:strVal val="visible"/>
                                      </p:to>
                                    </p:set>
                                    <p:anim calcmode="lin" valueType="num">
                                      <p:cBhvr additive="base">
                                        <p:cTn id="41" dur="5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42" dur="5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nabi dan rasul Allah lainnya pun masuk dalam daftar tersebut. Yasir dan Sumayyah berjalan tenang dengan predikat Syahid dan syahidah pertama dalam Islam. Juga para sahabat lainnya, satu persatu para pengikut terdahulu Rasul itu dengan bangga melangkah ke tempat dimana Allah akan membuka tabirnya. Yang aku tahu, salah satu kenikmatan yang akan diterima para penghuni surga adalah melihat wajah Allah. Kusaksikan para sahabat Muhajirin dan Anshor yang tengah bersyukur mendapatkan nikmat tiada terhingga sebagai balasan kesetiaan berjuang bersama Muhammad menegakkan risalah. Setelah itu tersebutlah para mukminin terdahulu dan para syuhada dalam berbagai perjuangan pembelaan agama Allah.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03"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7" presetSubtype="4">
                                  <p:stCondLst>
                                    <p:cond delay="0"/>
                                  </p:stCondLst>
                                  <p:childTnLst>
                                    <p:set>
                                      <p:cBhvr>
                                        <p:cTn id="48" dur="1" fill="hold">
                                          <p:stCondLst>
                                            <p:cond delay="0"/>
                                          </p:stCondLst>
                                        </p:cTn>
                                        <p:tgtEl>
                                          <p:spTgt spid="102">
                                            <p:txEl>
                                              <p:pRg st="0" end="0"/>
                                            </p:txEl>
                                          </p:spTgt>
                                        </p:tgtEl>
                                        <p:attrNameLst>
                                          <p:attrName>style.visibility</p:attrName>
                                        </p:attrNameLst>
                                      </p:cBhvr>
                                      <p:to>
                                        <p:strVal val="visible"/>
                                      </p:to>
                                    </p:set>
                                    <p:anim calcmode="lin" valueType="num">
                                      <p:cBhvr additive="base">
                                        <p:cTn id="49" dur="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entara itu, dadaku berdegub keras menunggu giliran. Aku terperanjat begitu melihat rombongan anak-anak yatim dengan riang berlari untuk segera menikmati kesegaran telaga kautsar. Beberapa dari mereka tersenyum sambil melambaikan tangannya kepadaku. Sepertinya aku kenal mereka. Ya Allah, mereka anak-anak yatim sebelah rumahku yang tidak pernah kuperhatikan. Anak-anak yang selalu menangis kelaparan dimalam hari sementara sering kubuang sebagian makanan yang tak habis kumakan.</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07"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7" presetSubtype="4">
                                  <p:stCondLst>
                                    <p:cond delay="0"/>
                                  </p:stCondLst>
                                  <p:childTnLst>
                                    <p:set>
                                      <p:cBhvr>
                                        <p:cTn id="56" dur="1" fill="hold">
                                          <p:stCondLst>
                                            <p:cond delay="0"/>
                                          </p:stCondLst>
                                        </p:cTn>
                                        <p:tgtEl>
                                          <p:spTgt spid="106">
                                            <p:txEl>
                                              <p:pRg st="0" end="0"/>
                                            </p:txEl>
                                          </p:spTgt>
                                        </p:tgtEl>
                                        <p:attrNameLst>
                                          <p:attrName>style.visibility</p:attrName>
                                        </p:attrNameLst>
                                      </p:cBhvr>
                                      <p:to>
                                        <p:strVal val="visible"/>
                                      </p:to>
                                    </p:set>
                                    <p:anim calcmode="lin" valueType="num">
                                      <p:cBhvr additive="base">
                                        <p:cTn id="57" dur="5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hanallah, itu si Parmin tukang mie dekat kantorku," aku terperangah melihatnya melenggang ke surga. Parmin, pemuda yang tidak pernah lulus SD itu pernah bercerita, bahwa sebagian besar hasil dagangnya ia kririmkan untuk ibu dan biaya sekolah empat adiknya. Parmin yang rajin sholat itu, rela berpuasa berhari-hari asal ibu dan adik-adiknya di kampung tidak kelaparan. Tiba-tiba, orang yang sejak tadi disampingku berkata lagi, "Parmin yang tukang mie itu lebih baik dimata Allah. Ia bekerja untuk kebahagiaan orang lain." Sementara aku, semua hasil keringatku semata untuk keperluanku.</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1"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7" presetSubtype="4">
                                  <p:stCondLst>
                                    <p:cond delay="0"/>
                                  </p:stCondLst>
                                  <p:childTnLst>
                                    <p:set>
                                      <p:cBhvr>
                                        <p:cTn id="64" dur="1" fill="hold">
                                          <p:stCondLst>
                                            <p:cond delay="0"/>
                                          </p:stCondLst>
                                        </p:cTn>
                                        <p:tgtEl>
                                          <p:spTgt spid="110">
                                            <p:txEl>
                                              <p:pRg st="0" end="0"/>
                                            </p:txEl>
                                          </p:spTgt>
                                        </p:tgtEl>
                                        <p:attrNameLst>
                                          <p:attrName>style.visibility</p:attrName>
                                        </p:attrNameLst>
                                      </p:cBhvr>
                                      <p:to>
                                        <p:strVal val="visible"/>
                                      </p:to>
                                    </p:set>
                                    <p:anim calcmode="lin" valueType="num">
                                      <p:cBhvr additive="base">
                                        <p:cTn id="65"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lu berturut-turut lewat didepan mataku, mbok Darmi penjual pecel yang kehadirannya selalu kutolak, pengemis yang setiap hari lewat depan rumah dan selalu mendapatkan kata "maaf" dari bibirku dibalik pagar tinggi rumahku. Orang disampingku berbicara lagi seolah menjawab setiap pertanyaanku meski tidak kulontarkan, "Mereka ihklas, tidak sakit hati serta tidak memendam kebencian meski kau tolak."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5" name="">
            <a:hlinkClick r:id="" action="ppaction://hlinkshowjump?jump=nextslide"/>
          </p:cNvPr>
          <p:cNvSpPr/>
          <p:nvPr/>
        </p:nvSpPr>
        <p:spPr>
          <a:xfrm>
            <a:off x="8305920" y="6172200"/>
            <a:ext cx="457200" cy="457200"/>
          </a:xfrm>
          <a:custGeom>
            <a:avLst/>
            <a:gdLst>
              <a:gd name="textAreaLeft" fmla="*/ 54000 w 457200"/>
              <a:gd name="textAreaRight" fmla="*/ 403200 w 457200"/>
              <a:gd name="textAreaTop" fmla="*/ 54000 h 457200"/>
              <a:gd name="textAreaBottom" fmla="*/ 4032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50" y="2550"/>
                </a:lnTo>
                <a:lnTo>
                  <a:pt x="2550" y="2550"/>
                </a:lnTo>
                <a:close/>
              </a:path>
              <a:path fill="darken" w="21600" h="21600">
                <a:moveTo>
                  <a:pt x="21600" y="0"/>
                </a:moveTo>
                <a:lnTo>
                  <a:pt x="21600" y="21600"/>
                </a:lnTo>
                <a:lnTo>
                  <a:pt x="19050" y="19050"/>
                </a:lnTo>
                <a:lnTo>
                  <a:pt x="19050" y="2550"/>
                </a:lnTo>
                <a:close/>
              </a:path>
              <a:path fill="darkenLess" w="21600" h="21600">
                <a:moveTo>
                  <a:pt x="21600" y="21600"/>
                </a:moveTo>
                <a:lnTo>
                  <a:pt x="0" y="21600"/>
                </a:lnTo>
                <a:lnTo>
                  <a:pt x="2550" y="19050"/>
                </a:lnTo>
                <a:lnTo>
                  <a:pt x="19050" y="19050"/>
                </a:lnTo>
                <a:close/>
              </a:path>
              <a:path fill="lighten" w="21600" h="21600">
                <a:moveTo>
                  <a:pt x="0" y="21600"/>
                </a:moveTo>
                <a:lnTo>
                  <a:pt x="0" y="0"/>
                </a:lnTo>
                <a:lnTo>
                  <a:pt x="2550" y="2550"/>
                </a:lnTo>
                <a:lnTo>
                  <a:pt x="2550" y="19050"/>
                </a:lnTo>
                <a:close/>
              </a:path>
              <a:path fill="darken" w="21600" h="21600">
                <a:moveTo>
                  <a:pt x="4651" y="4651"/>
                </a:moveTo>
                <a:lnTo>
                  <a:pt x="16949" y="10800"/>
                </a:lnTo>
                <a:lnTo>
                  <a:pt x="4651" y="16949"/>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a:hlinkClick r:id="" action="ppaction://hlinkshowjump?jump=previousslide"/>
          </p:cNvPr>
          <p:cNvSpPr/>
          <p:nvPr/>
        </p:nvSpPr>
        <p:spPr>
          <a:xfrm>
            <a:off x="7772400" y="6172200"/>
            <a:ext cx="457200" cy="457200"/>
          </a:xfrm>
          <a:custGeom>
            <a:avLst/>
            <a:gdLst>
              <a:gd name="textAreaLeft" fmla="*/ 60120 w 457200"/>
              <a:gd name="textAreaRight" fmla="*/ 397080 w 457200"/>
              <a:gd name="textAreaTop" fmla="*/ 60120 h 457200"/>
              <a:gd name="textAreaBottom" fmla="*/ 397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50" y="2850"/>
                </a:lnTo>
                <a:lnTo>
                  <a:pt x="2850" y="2850"/>
                </a:lnTo>
                <a:close/>
              </a:path>
              <a:path fill="darken" w="21600" h="21600">
                <a:moveTo>
                  <a:pt x="21600" y="0"/>
                </a:moveTo>
                <a:lnTo>
                  <a:pt x="21600" y="21600"/>
                </a:lnTo>
                <a:lnTo>
                  <a:pt x="18750" y="18750"/>
                </a:lnTo>
                <a:lnTo>
                  <a:pt x="18750" y="2850"/>
                </a:lnTo>
                <a:close/>
              </a:path>
              <a:path fill="darkenLess" w="21600" h="21600">
                <a:moveTo>
                  <a:pt x="21600" y="21600"/>
                </a:moveTo>
                <a:lnTo>
                  <a:pt x="0" y="21600"/>
                </a:lnTo>
                <a:lnTo>
                  <a:pt x="2850" y="18750"/>
                </a:lnTo>
                <a:lnTo>
                  <a:pt x="18750" y="18750"/>
                </a:lnTo>
                <a:close/>
              </a:path>
              <a:path fill="lighten" w="21600" h="21600">
                <a:moveTo>
                  <a:pt x="0" y="21600"/>
                </a:moveTo>
                <a:lnTo>
                  <a:pt x="0" y="0"/>
                </a:lnTo>
                <a:lnTo>
                  <a:pt x="2850" y="2850"/>
                </a:lnTo>
                <a:lnTo>
                  <a:pt x="2850" y="18750"/>
                </a:lnTo>
                <a:close/>
              </a:path>
              <a:path fill="darken" w="21600" h="21600">
                <a:moveTo>
                  <a:pt x="4874" y="10800"/>
                </a:moveTo>
                <a:lnTo>
                  <a:pt x="16726" y="4874"/>
                </a:lnTo>
                <a:lnTo>
                  <a:pt x="16726" y="16726"/>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 action="ppaction://hlinkshowjump?jump=firstslide"/>
          </p:cNvPr>
          <p:cNvSpPr/>
          <p:nvPr/>
        </p:nvSpPr>
        <p:spPr>
          <a:xfrm>
            <a:off x="6934320" y="6172200"/>
            <a:ext cx="685800" cy="457200"/>
          </a:xfrm>
          <a:custGeom>
            <a:avLst/>
            <a:gdLst>
              <a:gd name="textAreaLeft" fmla="*/ 66600 w 685800"/>
              <a:gd name="textAreaRight" fmla="*/ 619200 w 685800"/>
              <a:gd name="textAreaTop" fmla="*/ 66600 h 457200"/>
              <a:gd name="textAreaBottom" fmla="*/ 3906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9242" y="3150"/>
                </a:lnTo>
                <a:lnTo>
                  <a:pt x="3150" y="3150"/>
                </a:lnTo>
                <a:close/>
              </a:path>
              <a:path fill="darken" w="32392" h="21600">
                <a:moveTo>
                  <a:pt x="32392" y="0"/>
                </a:moveTo>
                <a:lnTo>
                  <a:pt x="32392" y="21600"/>
                </a:lnTo>
                <a:lnTo>
                  <a:pt x="29242" y="18450"/>
                </a:lnTo>
                <a:lnTo>
                  <a:pt x="29242" y="3150"/>
                </a:lnTo>
                <a:close/>
              </a:path>
              <a:path fill="darkenLess" w="32392" h="21600">
                <a:moveTo>
                  <a:pt x="32392" y="21600"/>
                </a:moveTo>
                <a:lnTo>
                  <a:pt x="0" y="21600"/>
                </a:lnTo>
                <a:lnTo>
                  <a:pt x="3150" y="18450"/>
                </a:lnTo>
                <a:lnTo>
                  <a:pt x="29242" y="18450"/>
                </a:lnTo>
                <a:close/>
              </a:path>
              <a:path fill="lighten" w="32392" h="21600">
                <a:moveTo>
                  <a:pt x="0" y="21600"/>
                </a:moveTo>
                <a:lnTo>
                  <a:pt x="0" y="0"/>
                </a:lnTo>
                <a:lnTo>
                  <a:pt x="3150" y="3150"/>
                </a:lnTo>
                <a:lnTo>
                  <a:pt x="3150" y="18450"/>
                </a:lnTo>
                <a:close/>
              </a:path>
              <a:path fill="darken" w="32392" h="21600">
                <a:moveTo>
                  <a:pt x="16196" y="5133"/>
                </a:moveTo>
                <a:lnTo>
                  <a:pt x="18292" y="7258"/>
                </a:lnTo>
                <a:lnTo>
                  <a:pt x="18292" y="5842"/>
                </a:lnTo>
                <a:lnTo>
                  <a:pt x="19737" y="5842"/>
                </a:lnTo>
                <a:lnTo>
                  <a:pt x="19737" y="8703"/>
                </a:lnTo>
                <a:lnTo>
                  <a:pt x="21862" y="10800"/>
                </a:lnTo>
                <a:lnTo>
                  <a:pt x="20517" y="10800"/>
                </a:lnTo>
                <a:lnTo>
                  <a:pt x="20517" y="16651"/>
                </a:lnTo>
                <a:lnTo>
                  <a:pt x="11875" y="16651"/>
                </a:lnTo>
                <a:lnTo>
                  <a:pt x="11875" y="10800"/>
                </a:lnTo>
                <a:lnTo>
                  <a:pt x="10529" y="10800"/>
                </a:lnTo>
                <a:close/>
              </a:path>
              <a:path fill="darkenLess" w="32392" h="21600">
                <a:moveTo>
                  <a:pt x="18292" y="7258"/>
                </a:moveTo>
                <a:lnTo>
                  <a:pt x="18292" y="5842"/>
                </a:lnTo>
                <a:lnTo>
                  <a:pt x="19737" y="5842"/>
                </a:lnTo>
                <a:lnTo>
                  <a:pt x="19737" y="8703"/>
                </a:lnTo>
                <a:close/>
              </a:path>
              <a:path fill="darkenLess" w="32392" h="21600">
                <a:moveTo>
                  <a:pt x="15445" y="13648"/>
                </a:moveTo>
                <a:lnTo>
                  <a:pt x="16947" y="13648"/>
                </a:lnTo>
                <a:lnTo>
                  <a:pt x="16947" y="16651"/>
                </a:lnTo>
                <a:lnTo>
                  <a:pt x="20517" y="16651"/>
                </a:lnTo>
                <a:lnTo>
                  <a:pt x="20517" y="10800"/>
                </a:lnTo>
                <a:lnTo>
                  <a:pt x="11875" y="10800"/>
                </a:lnTo>
                <a:lnTo>
                  <a:pt x="11875" y="16651"/>
                </a:lnTo>
                <a:lnTo>
                  <a:pt x="15445" y="16651"/>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7" presetSubtype="4">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anim calcmode="lin" valueType="num">
                                      <p:cBhvr additive="base">
                                        <p:cTn id="73"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9:10:31Z</dcterms:created>
  <dc:creator>Zidni</dc:creator>
  <dc:description/>
  <dc:language>en-US</dc:language>
  <cp:lastModifiedBy>Zidni</cp:lastModifiedBy>
  <dcterms:modified xsi:type="dcterms:W3CDTF">2002-08-28T10:45:07Z</dcterms:modified>
  <cp:revision>5</cp:revision>
  <dc:subject/>
  <dc:title>Aku Tidak Lebih Dulu ke Surga </dc:title>
</cp:coreProperties>
</file>