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7EE-12BC-4B57-9D73-17C25B42853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40D7-3E81-4386-B72B-B6540EC6047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43A8-04B1-4586-A08C-8608802870A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107-9581-4C0E-8A9E-423126A35AD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748E-DCD1-4679-A22F-E77E20AAAE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C64F-4C17-461C-A9C6-03FEEE4D79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6A0-A763-4EE2-AE41-18076F8B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975-B846-4382-8E15-15D2E91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A6F-626B-46D0-AF45-0D7E4569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0E8-2F03-4516-A3AD-483BF427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3A5-B0F6-498F-BF75-DCC3577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28B-6D19-4F7A-810C-0DB7191E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4ED-C4A6-484C-B311-9EC5BDA9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89C-128F-4F42-8191-A6EFBFB8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7CD-B1BB-4F11-9348-5F422D3A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DD1-783E-4356-9BB4-3976BDD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C15-09C0-4A07-9A2B-B99BF75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D2B-56D2-46F0-834D-25CE2A8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EEDA-8EA0-4D8C-9C01-8AA69EC07BF3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28D-6F15-4319-9901-ACA56D6ACE3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02024A.gif"/>
          <p:cNvPicPr/>
          <p:nvPr/>
        </p:nvPicPr>
        <p:blipFill>
          <a:blip r:embed="rId1"/>
          <a:stretch/>
        </p:blipFill>
        <p:spPr>
          <a:xfrm>
            <a:off x="3214800" y="21420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79200" y="2206800"/>
            <a:ext cx="906444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0002024A.gif"/>
          <p:cNvPicPr/>
          <p:nvPr/>
        </p:nvPicPr>
        <p:blipFill>
          <a:blip r:embed="rId3"/>
          <a:stretch/>
        </p:blipFill>
        <p:spPr>
          <a:xfrm rot="4054200">
            <a:off x="470880" y="4695480"/>
            <a:ext cx="153360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002024A.gif"/>
          <p:cNvPicPr/>
          <p:nvPr/>
        </p:nvPicPr>
        <p:blipFill>
          <a:blip r:embed="rId4"/>
          <a:stretch/>
        </p:blipFill>
        <p:spPr>
          <a:xfrm rot="19531200">
            <a:off x="6858000" y="4857480"/>
            <a:ext cx="153360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CAC6-A5ED-4C25-B5CD-B41FA2F831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35676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-blockers reverse pressor effect of noradrenaline on BP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-blockers block pressor effect of noradrenaline on B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-blockers reverse the pressor effect of adrenaline on BP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F3F-BC9E-4BC6-918E-32B801EAD15C}" type="slidenum">
              <a:rPr b="1" lang="ar-SA" sz="12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4200" y="285480"/>
            <a:ext cx="8715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ural hypotension is a prominent adverse effect of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blocker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tolamine is an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 with histamine like action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tolamine is used in diagnosis and treatment of pheochromocytoma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a competitiv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a reversible competitiv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EFD8-FEAA-4AB9-9249-F4CE930844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28548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a non-competitive irreversibl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used in treatment of cardiogenic shock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used in treatment of hemorrhagic and endotoxic shock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zosin produces vasodilatation through blocking post synaptic alpha 1 receptor only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zosin produces direct vasodilator effect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745-4FF1-422E-97CA-836C03C841C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2560" y="285480"/>
            <a:ext cx="90010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produces marked tachycardia as a side effec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apeutic doses of prazosin produces minimal changes in heart rat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decreases both pre- and after-loads on the hear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is useful in hypertensive patients with benign prostatic hyperplasia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6BD6-05E5-444C-A5C9-523D443C67B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357120"/>
            <a:ext cx="88581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produces an initial hypertensive effec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is started by large dose in the morning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is started by small dose at bedtim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mazosin is better than Prazosin as it does not show the first dose phenomenon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3D4-C099-45D1-89F4-D417F337C1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42920" y="21384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msulosin is a long acting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blocker used in ttt of  BPH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msulosin is a selective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A blocker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himbine is a selectiv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blocker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himbine is an aphrodisiac drug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ldenafil (Viagra) increases cGMP through blocking action of 5 phosphodiesterase enzyme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BCA3-EF4D-450F-8085-16EB054691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image008.gif"/>
          <p:cNvPicPr/>
          <p:nvPr/>
        </p:nvPicPr>
        <p:blipFill>
          <a:blip r:embed="rId1"/>
          <a:stretch/>
        </p:blipFill>
        <p:spPr>
          <a:xfrm>
            <a:off x="1106640" y="928800"/>
            <a:ext cx="6323040" cy="474984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8EEF-5C75-4CDE-9DC7-DA7D6EACBE8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13840" y="214200"/>
            <a:ext cx="89298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and Metoprolol can pass BBB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dolol and Atenolol are eliminated by the kidney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hypophilic while atenolol is Lipophilic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a vasodilat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depresses all cardiac properties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7D8-B7BC-4602-B274-82315FD4295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42560" y="214200"/>
            <a:ext cx="9001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reverses the hypertensive effect of adrenaline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blocks the hypotensive effect of isoprenaline. 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lowers blood pressure by its direct VD effect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antagonizes the hypoglycemic effect of insulin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yperkalemia is an adverse effect of propranolol specially in uremic patients. 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371-E9DE-4022-91A4-57A5A25B81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35712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produces an initial decrease followed by prolonged increase in peripheral resistance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treats angina by producing coronary VD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useful in treatment of Variant angina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a suitable antihypertensive in patients with bronchial asthma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6BE9-746E-4F70-8694-019086B430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571320"/>
            <a:ext cx="91440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Quiz-6 covers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omic Sans MS"/>
              </a:rPr>
              <a:t>"pages 74 - 85“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mic Sans MS"/>
              </a:rPr>
              <a:t>[from Vasopressor Sympathomimetic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mic Sans MS"/>
              </a:rPr>
              <a:t>till end of Sympatholytics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Each quiz will contain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 True/False/I am not sure ques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 Matching ques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7874-864B-4D22-8D18-B052508756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2560" y="285480"/>
            <a:ext cx="90010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ation and bronchospasm are major adverse effects of atenolol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enolol decreases all cardiac properties. 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enolol and nadolol undergo first pass extensive hepatic metabolism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dolol produces sedation more than propranolol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6BC-1351-484F-A340-AF227899A1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3840" y="214200"/>
            <a:ext cx="8929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xprenolol has ISA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xprenolol is safer than propranolol in patients with supersensitive receptors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vedilol can be used in some cases of moderate heart failure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vedilol, a vasodilator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, has an additional anti-oxidant action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vedilol and labetalol have combined B- blocker plu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- blocker effects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557D-DEFF-4DDF-B092-8948202F394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2560" y="285480"/>
            <a:ext cx="9001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sodilators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include celiprolol, nebivolol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rvedilol and labetal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bound hypertension occurs if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 are stopped suddenly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gina and even myocardial infarction can occur if β-blockers  are stopped suddenly. 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tients are advised to stop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suddenly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tients are advised never to stop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suddenly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CF9E-3C23-42B1-B6C1-9E52119F7B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85480" y="28584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s are absolutely contraindicated in heart failure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ural hypotension is a serious adverse effect of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s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s are contraindicated in glaucoma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iprolol and nebivolol are partial agonists 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7C64-F286-4A9C-9855-6F4C7B2042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talol has both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locking activities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talol is used safely as antihypertensive during pregnancy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talol is useful in treatment of pheochromocytoma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ta blockers are used alone in treatment of pheochromocytoma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E46-D81E-493C-A391-9181071B02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nethidine is a centrally acting sympathetic depressant.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nfacine is a centrally acting sympathetic depressant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Parkinsonism are adverse effects of guanethidine.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Parkinsonism are adverse effects of reserpine. 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rpine is used in treatment of hypertension in patients with Parkinson’s disease.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7F7-F891-4C04-9A24-7BF5F98371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rpine and guanethidine are in common use nowadays in treatment of hypertension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rpine depletes central and peripheral catecholamines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lmenidine is a selective imidazoline </a:t>
            </a:r>
            <a:r>
              <a:rPr b="0" lang="en-US" sz="3000" spc="-1" strike="noStrike">
                <a:solidFill>
                  <a:srgbClr val="000000"/>
                </a:solidFill>
                <a:latin typeface="Baskerville Old Face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agonist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hyldopa is considered as a prodrug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hyldopa acts as false transmitter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hyldopa stimulates directly th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 receptors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A638-5832-4BF7-8B0E-18C322B5C9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28584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is suitable for treatment of hypertension during pregnancy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leads to a decrease in renin release by the kidney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may produce +ve Coomb’s test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nidine is an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2 blocker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nidine decreases sympathetic flow from CNS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BB2E-A0AB-4CD2-AB92-3BB3EF4337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 stop of clonidine therapy results into rebound hypertension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nidine when combined with morphine in caudal anesthesia provides better anesthesia. 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bound hypertension occurs after abrupt withdrawal of : clonidine, methyl dopa, beta-blockers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nfacine produces less rebound hypertension than clonidine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37F-9E16-4EC7-8EFF-05970A3CF0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11" descr="excellent.gif"/>
          <p:cNvPicPr/>
          <p:nvPr/>
        </p:nvPicPr>
        <p:blipFill>
          <a:blip r:embed="rId1"/>
          <a:stretch/>
        </p:blipFill>
        <p:spPr>
          <a:xfrm>
            <a:off x="1357200" y="1214280"/>
            <a:ext cx="6572520" cy="392112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358-7578-4501-A0A2-7928C5386B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 the following statements as True (A) or False (B) or I am not sure (C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160-6B98-4BEC-99A3-A518C7F0E9A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1799280"/>
            <a:ext cx="914400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tch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or the following matching questions, choose the most appropri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option for each statement, each option may be chosen once or more or not at 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9367-D2B9-4FA4-9844-00A71C2561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- Prazosin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b- Phenoxybenzamine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c- Atenol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d- Propranolol                e- Carvedi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f- Reserp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g- Methyldopa               h- Ritodr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          i- Guanfa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J- phenylephr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- Vasodilator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 blocker. 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2- Irreversible non-competi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blocker.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3- Acts by formation of a false transmitter.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4- Depletes central and peripheral catecholamines. 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5- 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6- 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 -blocker that produces cold extremities.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7-  Non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blocker.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8-  Useful in hypertension during pregnancy.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9- A cardio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0-  An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 agonist. 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1- Produces less rebound hypertension than clonidine. 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2- is used as a tocolytic agent in premature labor 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391D-BBBF-4E83-BF74-50102A24F2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0"/>
            <a:ext cx="91440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- Pindo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b- Yohimb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c- Bisoprol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d- Propranolol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e- Prazosin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f- Clonid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g- Methyldopa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h- Guanethid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i- Reserp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J- Ritodr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- Non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 blocker with ISA.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2- A 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3- Cardio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4- Direct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2 agonist. 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5- Depletes central and peripheral catecholamines. 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6- A 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2 blocker.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7- Non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 blocker without ISA.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8- Indirect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2 agonist.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9-  Is an adrenergic neuron blocker causing severe postural hypotension.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0-  Used in hypertension with pregnancy. 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1-  Delay premature labour. 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2- Useful in treatment of hypertension in patients with benign prostatic hyperplasia. 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C95C-043F-4DA5-8242-A0D8101542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- Phentolamine                         b- Tamsulosin                             c- labetal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d- Celipro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e- Carvedi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 f- Reserp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g- Yohimb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h- Methyldopa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 i- Guanfa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J- Tetrahydrazo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- Non selective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- blocker. 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2- A selective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-1A blocker. 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3- An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-2 blocker. 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4- May produce +ve Coomb’s test. 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5- Vasodilator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 blocker with additional antioxidant action. 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6- Like clonidine but produces less rebound hypertension. 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7- Increase the sexual desire. 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8- Partial agonist on b2 receptor. 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9- Has longer duration of action with less rebound nasal congestion. 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0-  Used in treatment of moderate heart failure. 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1-  Blocks both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 and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 receptors but without antioxidant effect. 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2-  Used in treatment of BPH.  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189-6275-4264-9E73-24382900ED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208080" y="2152800"/>
            <a:ext cx="8843760" cy="3456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13D5-D237-4A63-B798-9FE4279A052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560" y="356760"/>
            <a:ext cx="9001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is a selective alpha-1 agonis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produces generalized V.C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eye drops produces active mydriasi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produces hypertension with reflex bradycardia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produces hypotension with reflex tachycardia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61F6-5F70-410B-A1DB-5DC01C983A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3571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is a selective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 agonis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sal decongestants act by blocking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receptor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n adverse effect of nasal decongestant is rebound congestion after stopping the dru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of recent members of Nasal decongestants  are: short duration of action and less rebound congestio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of recent members of Nasal decongestants  are: long duration of action and less rebound congestio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8897-B882-407A-9C62-5B4DD73633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560" y="214200"/>
            <a:ext cx="9001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phazoline produces V.D. of mucous membrane blood vessel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phazoline is a nasal decongestan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phazoline produces V.C. of mucous membrane blood vessel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ylometazoline is an old nasal decongestan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trahydrozoline is used as nasal decongestan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sal decongestants are contraindicated in hypertensive &amp; anginal patients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9995-2997-4327-90FD-F1626501C3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2854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sodilators are used in treatment of peripheral vascular dise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xsuprine produces skeletal muscle V.D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xsuprine produces skeletal muscle V.C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xsuprine produces smooth muscle V.D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eterol is a long acting selective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2 agoni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62FE-5507-4754-83C3-4E035A6A36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2560" y="-36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butamol is used as a nasal decongestan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butamol and terbutaline are short acting bronchodilators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mbuterol is given by inhalation in long term prophylaxis of bronchial asthm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agonists can produce tachycardia as a side effec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4840-F890-4BB5-95F3-34CAC438E9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drug with 100% selectivity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todrine contract the cervix during labour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todrine relaxes the uterus and cervix during labour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todrine is used as a tocolytic agent in premature labor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18D-CC86-46D8-8521-48A20A0366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Royale</cp:lastModifiedBy>
  <dcterms:modified xsi:type="dcterms:W3CDTF">2011-11-23T16:15:07Z</dcterms:modified>
  <cp:revision>150</cp:revision>
  <dc:subject/>
  <dc:title>Slide 1</dc:title>
</cp:coreProperties>
</file>