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6D2-6F3D-4A1B-95E9-66B9A35DA7C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1354-A178-4816-9AFD-22B7BE522B6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DF74-609D-46F8-AC20-ABDD16C5840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939-5EDD-4104-BF90-33DA582D6DE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EA1-625C-4384-AF4F-D1B2C16A917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9E7B-7FB4-425A-BFC2-4D143A8C29A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A0E-1680-4B37-8188-91320EA2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7BC-B86A-494D-99F2-706B2185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442-1692-42FF-954C-4AADAFB6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340-F509-41A8-977F-A2A44017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F8C-C925-454E-B03C-5100B29E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44B-1146-45A2-9BA3-F9251BC4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4DF-EECD-48DC-81ED-FF50DB2C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DB3-F781-4992-AC56-2CD0FCEB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0F6-FC83-4B20-A28E-E4DFE992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58B-94C3-4D82-9E78-58965EF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06B-6AD3-48CB-A2D0-67999923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8AF-D1C3-4AE1-8E77-3DF627DD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8F84-0F02-44E1-BF1F-AAD4C7F25FD2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5524-3ABB-4423-A2D8-80E4FCE8273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02024A.gif"/>
          <p:cNvPicPr/>
          <p:nvPr/>
        </p:nvPicPr>
        <p:blipFill>
          <a:blip r:embed="rId1"/>
          <a:stretch/>
        </p:blipFill>
        <p:spPr>
          <a:xfrm>
            <a:off x="3214800" y="214200"/>
            <a:ext cx="25714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79200" y="2206800"/>
            <a:ext cx="906444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0002024A.gif"/>
          <p:cNvPicPr/>
          <p:nvPr/>
        </p:nvPicPr>
        <p:blipFill>
          <a:blip r:embed="rId3"/>
          <a:stretch/>
        </p:blipFill>
        <p:spPr>
          <a:xfrm rot="4054200">
            <a:off x="470880" y="4695480"/>
            <a:ext cx="153360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002024A.gif"/>
          <p:cNvPicPr/>
          <p:nvPr/>
        </p:nvPicPr>
        <p:blipFill>
          <a:blip r:embed="rId4"/>
          <a:stretch/>
        </p:blipFill>
        <p:spPr>
          <a:xfrm rot="19531200">
            <a:off x="6858000" y="4857480"/>
            <a:ext cx="153360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BA7B-F101-4043-9237-821309F66ED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35676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-blockers reverse pressor effect of noradrenaline on BP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-blockers block pressor effect of noradrenaline on B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-blockers reverse the pressor effect of adrenaline on BP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7A1C-DBA9-4653-AB99-F0E98BC8C318}" type="slidenum">
              <a:rPr b="1" lang="ar-SA" sz="12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4200" y="285480"/>
            <a:ext cx="8715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ural hypotension is a prominent adverse effect of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 blocker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tolamine is an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 with histamine like action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tolamine is used in diagnosis and treatment of pheochromocytoma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a competitiv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a reversible competitiv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2D18-36F1-4737-8BB5-8D846A5697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4200" y="28548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a non-competitive irreversibl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used in treatment of cardiogenic shock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oxybenzamine is used in treatment of hemorrhagic and endotoxic shock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zosin produces vasodilatation through blocking post synaptic alpha 1 receptor only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zosin produces direct vasodilator effect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925F-2E47-4CC4-9702-B3576C7816D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2560" y="285480"/>
            <a:ext cx="90010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produces marked tachycardia as a side effect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apeutic doses of prazosin produces minimal changes in heart rat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decreases both pre- and after-loads on the heart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is useful in hypertensive patients with benign prostatic hyperplasia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C159-6CAF-4C04-8C38-A5FC1C5458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357120"/>
            <a:ext cx="88581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produces an initial hypertensive effect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is started by large dose in the morning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zosin is started by small dose at bedtim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mazosin is better than Prazosin as it does not show the first dose phenomenon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26D6-C7CE-4AF5-A365-CD874D1E15F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42920" y="21384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msulosin is a long acting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 blocker used in ttt of  BPH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msulosin is a selective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1A blocker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himbine is a selectiv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 blocker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himbine is an aphrodisiac drug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ldenafil (Viagra) increases cGMP through blocking action of 5 phosphodiesterase enzyme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7948-3C1B-4B20-86F5-C1860F66A9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image008.gif"/>
          <p:cNvPicPr/>
          <p:nvPr/>
        </p:nvPicPr>
        <p:blipFill>
          <a:blip r:embed="rId1"/>
          <a:stretch/>
        </p:blipFill>
        <p:spPr>
          <a:xfrm>
            <a:off x="1106640" y="928800"/>
            <a:ext cx="6323040" cy="474984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D45D-9812-4FC5-95D5-8783606C30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13840" y="214200"/>
            <a:ext cx="89298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and Metoprolol can pass BBB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dolol and Atenolol are eliminated by the kidney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is hypophilic while atenolol is Lipophilic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is a vasodilat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locker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depresses all cardiac properties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FAA4-54EC-4C03-8F7F-E1970D3622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42560" y="214200"/>
            <a:ext cx="9001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ranolol reverses the hypertensive effect of adrenaline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ranolol blocks the hypotensive effect of isoprenaline. 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ranolol lowers blood pressure by its direct VD effect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ranolol antagonizes the hypoglycemic effect of insulin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yperkalemia is an adverse effect of propranolol specially in uremic patients. 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58E4-F36B-4C62-A273-FCA9DC82B4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35712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produces an initial decrease followed by prolonged increase in peripheral resistance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treats angina by producing coronary VD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is useful in treatment of Variant angina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ranolol is a suitable antihypertensive in patients with bronchial asthma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B88D-308F-455B-B3F7-9C2862AB72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571320"/>
            <a:ext cx="91440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Quiz-6 covers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0c0"/>
                </a:solidFill>
                <a:latin typeface="Comic Sans MS"/>
              </a:rPr>
              <a:t>"pages 74 - 85“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mic Sans MS"/>
              </a:rPr>
              <a:t>[from Vasopressor Sympathomimetic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mic Sans MS"/>
              </a:rPr>
              <a:t>till end of Sympatholytics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Each quiz will contain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 True/False/I am not sure ques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 Matching ques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2B3F-FC4A-4CF5-922E-80986FE487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2560" y="285480"/>
            <a:ext cx="90010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ation and bronchospasm are major adverse effects of atenolol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enolol decreases all cardiac properties. 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enolol and nadolol undergo first pass extensive hepatic metabolism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dolol produces sedation more than propranolol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FCE5-2841-4CFC-98CD-DB31917D7FC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3840" y="214200"/>
            <a:ext cx="8929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xprenolol has ISA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xprenolol is safer than propranolol in patients with supersensitive receptors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vedilol can be used in some cases of moderate heart failure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vedilol, a vasodilator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, has an additional anti-oxidant action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vedilol and labetalol have combined B- blocker plu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- blocker effects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93CA-9C02-48E9-8146-24351AB8B2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2560" y="285480"/>
            <a:ext cx="90010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sodilators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s include celiprolol, nebivolol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rvedilol and labetal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bound hypertension occurs if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s  are stopped suddenly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gina and even myocardial infarction can occur if β-blockers  are stopped suddenly. 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tients are advised to stop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s suddenly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tients are advised never to stop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blockers suddenly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D9C-8B80-4E00-8E96-C7A3AE0EFB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85480" y="28584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lockers are absolutely contraindicated in heart failure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ural hypotension is a serious adverse effect of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lockers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lockers are contraindicated in glaucoma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iprolol and nebivolol are partial agonists 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7AF3-46CB-4EEB-A343-59E6682AF1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talol has both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locking activities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talol is used safely as antihypertensive during pregnancy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talol is useful in treatment of pheochromocytoma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ta blockers are used alone in treatment of pheochromocytoma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6F03-60F5-44A1-8353-3D82B0C132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nethidine is a centrally acting sympathetic depressant.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nfacine is a centrally acting sympathetic depressant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Parkinsonism are adverse effects of guanethidine.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Parkinsonism are adverse effects of reserpine. 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rpine is used in treatment of hypertension in patients with Parkinson’s disease.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1188-D66A-4A3A-9516-D1DF34E301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rpine and guanethidine are in common use nowadays in treatment of hypertension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rpine depletes central and peripheral catecholamines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lmenidine is a selective imidazoline </a:t>
            </a:r>
            <a:r>
              <a:rPr b="0" lang="en-US" sz="3000" spc="-1" strike="noStrike">
                <a:solidFill>
                  <a:srgbClr val="000000"/>
                </a:solidFill>
                <a:latin typeface="Baskerville Old Face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1 agonist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hyldopa is considered as a prodrug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hyldopa acts as false transmitter.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hyldopa stimulates directly the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 receptors.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BC31-F034-4A04-A8AA-DCBDC5CE5F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28584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is suitable for treatment of hypertension during pregnancy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leads to a decrease in renin release by the kidney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may produce +ve Coomb’s test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nidine is an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2 blocker.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nidine decreases sympathetic flow from CNS.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E3FE-C831-4717-AD3F-AD1815D62A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den stop of clonidine therapy results into rebound hypertension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nidine when combined with morphine in caudal anesthesia provides better anesthesia. 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bound hypertension occurs after abrupt withdrawal of : clonidine, methyl dopa, beta-blockers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nfacine produces less rebound hypertension than clonidine. 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72C-5EC0-46D1-A6CC-60454CBF24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11" descr="excellent.gif"/>
          <p:cNvPicPr/>
          <p:nvPr/>
        </p:nvPicPr>
        <p:blipFill>
          <a:blip r:embed="rId1"/>
          <a:stretch/>
        </p:blipFill>
        <p:spPr>
          <a:xfrm>
            <a:off x="1357200" y="1214280"/>
            <a:ext cx="6572520" cy="392112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AEE1-BFD2-40F2-B42D-7F90A3241E0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 the following statements as True (A) or False (B) or I am not sure (C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F500-ED14-4C32-BA20-99120CC6FE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1799280"/>
            <a:ext cx="914400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tch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or the following matching questions, choose the most appropri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option for each statement, each option may be chosen once or more or not at 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59F2-E0A5-40F7-9B1C-D114A40EC2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- Prazosin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b- Phenoxybenzamine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c- Atenol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d- Propranolol                e- Carvedilol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f- Reserp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g- Methyldopa               h- Ritodrin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          i- Guanfa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J- phenylephr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- Vasodilator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 blocker. 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2- Irreversible non-competi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blocker.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3- Acts by formation of a false transmitter.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4- Depletes central and peripheral catecholamines. 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5- 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blocker.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6- 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 -blocker that produces cold extremities.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7-  Non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blocker.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8-  Useful in hypertension during pregnancy.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9- A cardio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blocker. 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0-  An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 agonist. 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1- Produces less rebound hypertension than clonidine. 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2- is used as a tocolytic agent in premature labor 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6DCC-AC95-4248-9B11-536B2A9580B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0"/>
            <a:ext cx="91440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- Pindolol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b- Yohimbin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c- Bisoprol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d- Propranolol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e- Prazosin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f- Clonid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g- Methyldopa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h- Guanethidin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i- Reserp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J- Ritodr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- Non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 blocker with ISA.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2- A 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blocker. 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3- Cardio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 blocker. 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4- Direct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2 agonist. 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5- Depletes central and peripheral catecholamines. 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6- A 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2 blocker.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7- Non-selective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 blocker without ISA.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8- Indirect </a:t>
            </a:r>
            <a:r>
              <a:rPr b="1" lang="el-GR" sz="22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2 agonist.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9-  Is an adrenergic neuron blocker causing severe postural hypotension.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0-  Used in hypertension with pregnancy. 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1-  Delay premature labour. 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12- Useful in treatment of hypertension in patients with benign prostatic hyperplasia. 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CC91-FB3F-44E4-8546-4590C2F804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- Phentolamine                         b- Tamsulosin                             c- labetal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d- Celiprolol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e- Carvedilol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 f- Reserp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g- Yohimbin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h- Methyldopa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           i- Guanfa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J- Tetrahydrazo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1- Non selective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- blocker. 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2- A selective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-1A blocker. 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3- An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-2 blocker. 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4- May produce +ve Coomb’s test. 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5- Vasodilator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 blocker with additional antioxidant action. 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6- Like clonidine but produces less rebound hypertension. 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7- Increase the sexual desire. 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8- Partial agonist on b2 receptor. 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9- Has longer duration of action with less rebound nasal congestion. J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10-  Used in treatment of moderate heart failure. 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11-  Blocks both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α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 and </a:t>
            </a:r>
            <a:r>
              <a:rPr b="1" lang="el-GR" sz="21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 receptors but without antioxidant effect. 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030a0"/>
                </a:solidFill>
                <a:latin typeface="Calibri"/>
              </a:rPr>
              <a:t>12-  Used in treatment of BPH.  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F08E-BFF1-406C-BDB7-6BF2D9C132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208080" y="2152800"/>
            <a:ext cx="8843760" cy="3456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BACE-1929-4633-AC60-A11A434FFB2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560" y="356760"/>
            <a:ext cx="9001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is a selective alpha-1 agonis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produces generalized V.C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eye drops produces active mydriasi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produces hypertension with reflex bradycardia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produces hypotension with reflex tachycardia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C0F-3537-424E-9794-2559B6D379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3840" y="3571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enylephrine is a selective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2 agonis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sal decongestants act by blocking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receptor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on adverse effect of nasal decongestant is rebound congestion after stopping the dru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of recent members of Nasal decongestants  are: short duration of action and less rebound congestion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of recent members of Nasal decongestants  are: long duration of action and less rebound congestion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5D6B-2630-45DD-99ED-B39AC4C65A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560" y="214200"/>
            <a:ext cx="9001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phazoline produces V.D. of mucous membrane blood vessel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phazoline is a nasal decongestan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phazoline produces V.C. of mucous membrane blood vessel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ylometazoline is an old nasal decongestan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trahydrozoline is used as nasal decongestant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sal decongestants are contraindicated in hypertensive &amp; anginal patients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95F-12CD-42E9-9923-85FC90CB86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2854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sodilators are used in treatment of peripheral vascular dise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xsuprine produces skeletal muscle V.D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xsuprine produces skeletal muscle V.C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xsuprine produces smooth muscle V.D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eterol is a long acting selective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2 agoni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1D23-4C57-415D-B6DD-3A198C4DD8D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2560" y="-36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butamol is used as a nasal decongestant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butamol and terbutaline are short acting bronchodilators.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mbuterol is given by inhalation in long term prophylaxis of bronchial asthm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agonists can produce tachycardia as a side effec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6236-A7F4-46FC-9B8C-7981CAEE011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drug with 100% selectivity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todrine contract the cervix during labour.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todrine relaxes the uterus and cervix during labour.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todrine is used as a tocolytic agent in premature labor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306C-B547-4CED-B63C-7962CD896D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Royale</cp:lastModifiedBy>
  <dcterms:modified xsi:type="dcterms:W3CDTF">2011-11-23T16:15:07Z</dcterms:modified>
  <cp:revision>150</cp:revision>
  <dc:subject/>
  <dc:title>Slide 1</dc:title>
</cp:coreProperties>
</file>