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D74-CF74-47B4-BA9A-862AAD1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5DB-B0FB-457D-BE14-26083F7E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A39-C0BD-4C34-9814-F8FB8359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724-CF25-469C-BAE2-83930EB1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949-4756-41A2-B572-C64B8C3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773-D2EF-46E0-922B-4676AF8F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20F-2A5D-49A2-8249-90CDA19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5F2-75EC-4673-889F-59E9941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81D-E9EE-48C9-BCFB-8E3568C1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279-A3B8-4F9F-ACA2-5F63A296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BD7-B774-472A-AF02-8A1EC92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5BC-95BC-4006-9AB4-227A9AA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DC29-3758-4FB3-BAFA-ABA7815AEDE2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39DC-1F4E-49E9-B2DD-B3132F5C7E1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312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5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12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5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6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12-1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6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7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312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8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12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9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12-2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0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12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0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1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312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14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7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20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>
              <a:hlinkClick r:id="rId5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312-3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4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7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30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14:45Z</dcterms:created>
  <dc:creator>최봉수</dc:creator>
  <dc:description/>
  <dc:language>en-US</dc:language>
  <cp:lastModifiedBy>맛있다 군만두</cp:lastModifiedBy>
  <dcterms:modified xsi:type="dcterms:W3CDTF">2023-07-13T09:11:19Z</dcterms:modified>
  <cp:revision>6</cp:revision>
  <dc:subject/>
  <dc:title>슬라이드 1</dc:title>
</cp:coreProperties>
</file>