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0E3-5251-4F95-A99F-7496F64B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4B9-BDB6-4EAA-80F0-1CD553E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04A-055B-49B0-87DC-9E5C03E0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0A3-D176-40EF-9610-F41E48A9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CD9-8274-4C77-9337-F7A66C1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1C4-D86F-4297-AECB-A63586FD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FCF-CD63-4C74-A118-0412976D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8D4-F614-41D9-A2DF-3C20951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3FC-17CA-49D4-B8CE-DD2AA47E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19C-0EB3-410C-AA9E-9E08286C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9EB-37AB-4553-9EC7-0A8B440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CFE-E8BB-41D8-8FC5-2E06525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5896-346B-4D80-B1D4-3EFA2AD64B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7.xml"/><Relationship Id="rId5" Type="http://schemas.openxmlformats.org/officeDocument/2006/relationships/image" Target="../media/image11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12.jpeg"/><Relationship Id="rId8" Type="http://schemas.openxmlformats.org/officeDocument/2006/relationships/slide" Target="slide1.xm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60" y="1773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تب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لك أيامي رسالة ح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هديها يارب ا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951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رسملك تسبيحي حكاية هافضل أغنيها يام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0656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يا كوكب الصب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أيام معد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باكتب لك أي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3840" y="1143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نا مهما قدمت يارب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هافضل دايماً ليك مدي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664080"/>
            <a:ext cx="910908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انت اتجسدت علشا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 وشلت كل الهم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6920" y="1125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ا العمر منور ب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لخير يملى ويفي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35211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سرور  ف القلب أكيد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مطار البركة تزي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1143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كوكب الصبح الع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اعبد شخصك وبع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3664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بسبح اسمك ياغال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ي النصرة مضمونة ف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3840" y="1270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هب للذهرة تيج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لعصفور دايما شبعان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3448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ل اسرار الكون في ايد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هتف لك قلبي فرح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6920" y="12682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مهوب أنا باخضع 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يسوع أنا حبي ا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51936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راويني بغمر عين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ل كرامة و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مجد ا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920" y="112392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ايام معدودة وهاقاب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زمن الغربة خلاص هايغي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3375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روحي ها تتمتع وانا قر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نا شايف صورتك ياحبي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6920" y="126828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نا ضامن في سماك مك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يتك صار لي عنو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3519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توهبني أكاليل و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تيج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تهنى برب الأكو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705636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</p:pic>
      <p:sp>
        <p:nvSpPr>
          <p:cNvPr id="69" name=""/>
          <p:cNvSpPr/>
          <p:nvPr/>
        </p:nvSpPr>
        <p:spPr>
          <a:xfrm>
            <a:off x="196920" y="133992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نا ها أفضل مستن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ه مجيئك لي قري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359100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عنيي تكون في عين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لفرحة قلبي ب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7:34Z</dcterms:created>
  <dc:creator>Rev Yosef</dc:creator>
  <dc:description/>
  <dc:language>en-US</dc:language>
  <cp:lastModifiedBy>Sp2</cp:lastModifiedBy>
  <dcterms:modified xsi:type="dcterms:W3CDTF">2008-10-06T22:09:31Z</dcterms:modified>
  <cp:revision>4</cp:revision>
  <dc:subject/>
  <dc:title>Slide 1</dc:title>
</cp:coreProperties>
</file>