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62A-FDBE-465C-B575-C342051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49B-20B5-41ED-86A0-3BD6EB17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4FE-13D3-4FEA-9024-3803E1C7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1AF-CF52-4A9F-B5D7-D6D815E8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2D8-FE42-44E9-9694-7B5F0A6C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F07-8471-4AF8-B7A6-BA917E3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5A0-083A-4FD6-B48F-2C739523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BB6-ECCF-400E-8461-190A443C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79D-5365-415C-BD9A-5E2E0B9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694-3384-4EAE-B5D7-B7CDF7E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9BD-7E0D-41BC-A3CC-6D7E011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855-9E5E-4CF8-B119-5121475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BA0D-0717-44DE-8152-528CB8FAE9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1.jpeg"/><Relationship Id="rId4" Type="http://schemas.openxmlformats.org/officeDocument/2006/relationships/slide" Target="slide7.xml"/><Relationship Id="rId5" Type="http://schemas.openxmlformats.org/officeDocument/2006/relationships/image" Target="../media/image11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12.jpeg"/><Relationship Id="rId8" Type="http://schemas.openxmlformats.org/officeDocument/2006/relationships/slide" Target="slide1.xm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60" y="1773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ب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كتب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لك أيامي رسالة ح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هديها يارب ال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951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رسملك تسبيحي حكاية هافضل أغنيها يامل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0656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يا كوكب الصب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أيام معد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باكتب لك أيا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3840" y="114300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نا مهما قدمت يارب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هافضل دايماً ليك مديو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664080"/>
            <a:ext cx="910908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انت اتجسدت علشا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 وشلت كل الهمو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6920" y="1125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ا العمر منور ب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لخير يملى ويفي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35211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سرور  ف القلب أكيد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مطار البركة تزي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114300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كوكب الصبح الع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باعبد شخصك وبعل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36640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بسبح اسمك ياغال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ي النصرة مضمونة ف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3840" y="12700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هب للذهرة تيج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لعصفور دايما شبعان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0" y="34480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كل اسرار الكون في ايد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هتف لك قلبي فرحا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6920" y="126828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مهوب أنا باخضع ل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يسوع أنا حبي ال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51936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راويني بغمر عيني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كل كرامة و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مجد ال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6920" y="112392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ايام معدودة وهاقاب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زمن الغربة خلاص هايغي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3375000"/>
            <a:ext cx="8912160" cy="4483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روحي ها تتمتع وانا قرب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نا شايف صورتك ياحبي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6920" y="126828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نا ضامن في سماك مك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بيتك صار لي عنو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351936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توهبني أكاليل و</a:t>
            </a:r>
            <a:r>
              <a:rPr b="1" lang="ar-EG" sz="7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تيجا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اتهنى برب الأكوا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705636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</p:pic>
      <p:sp>
        <p:nvSpPr>
          <p:cNvPr id="69" name=""/>
          <p:cNvSpPr/>
          <p:nvPr/>
        </p:nvSpPr>
        <p:spPr>
          <a:xfrm>
            <a:off x="196920" y="133992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أنا ها أفضل مستن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ده مجيئك لي قري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3591000"/>
            <a:ext cx="8912160" cy="3385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وعنيي تكون في عين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ffff00"/>
                </a:solidFill>
                <a:latin typeface="Arial"/>
              </a:rPr>
              <a:t>يالفرحة قلبي بي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4:47:34Z</dcterms:created>
  <dc:creator>Rev Yosef</dc:creator>
  <dc:description/>
  <dc:language>en-US</dc:language>
  <cp:lastModifiedBy>Sp2</cp:lastModifiedBy>
  <dcterms:modified xsi:type="dcterms:W3CDTF">2008-10-06T22:09:31Z</dcterms:modified>
  <cp:revision>4</cp:revision>
  <dc:subject/>
  <dc:title>Slide 1</dc:title>
</cp:coreProperties>
</file>